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F4BE-B5F6-4E36-8F80-233767025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E648-1574-4675-A89C-DABD5E353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F843-B089-4B67-8787-7D2BF9212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473E-7EB2-4FD2-A859-929CCEDC1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8515-4012-47AD-A178-3CF3128EA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FD21-1000-4826-B2BC-B9B427BBB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07C5-E658-4E75-9E36-EC6675F13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DA8D-39D0-491F-98AC-E39065509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A4B9-B5B7-43F9-8D69-D9340689D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4EC0-8A80-4918-A908-9DCCF353F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C82D-9872-4F45-9CB5-E909C76AB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7D5A-37BF-477B-AE34-DC8920E75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AE2C8-033D-4CB7-926F-0AA0C929B5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401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5397480" cy="700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12T15:16:04Z</dcterms:created>
  <dc:creator>DND</dc:creator>
  <dc:description/>
  <dc:language>en-US</dc:language>
  <cp:lastModifiedBy>DND</cp:lastModifiedBy>
  <cp:lastPrinted>1999-01-12T15:16:38Z</cp:lastPrinted>
  <dcterms:modified xsi:type="dcterms:W3CDTF">1999-01-12T15:17:34Z</dcterms:modified>
  <cp:revision>1</cp:revision>
  <dc:subject/>
  <dc:title>No Slide Title</dc:title>
</cp:coreProperties>
</file>