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E73-72D2-4049-AB10-1B2F5951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740-0C05-4A93-A49C-BF1BB94E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1D6-962F-4353-81A3-0CE4E21D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49E-2B77-4FEA-82A5-769B57D1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CB4-F250-42A6-96E7-1D776161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DA0-6E7A-4896-8EB7-EFF07192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A18-DCAE-4CC1-A08F-FAB5024C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6F1-2B9A-4B1C-AA9C-8028C5E3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D48-CF57-4288-942C-1C563134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A08-05FC-4A93-AA0F-6D7491C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3F8-113E-4921-88C7-2A7F8DC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D10-1C3E-4572-B1E8-E87E731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0D94-31CF-4D35-8075-3A2613A83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F892A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F89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441640" y="645804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oancard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03:51:58Z</dcterms:created>
  <dc:creator>dnd</dc:creator>
  <dc:description/>
  <dc:language>en-US</dc:language>
  <cp:lastModifiedBy>dnd</cp:lastModifiedBy>
  <cp:lastPrinted>1999-03-02T18:16:43Z</cp:lastPrinted>
  <dcterms:modified xsi:type="dcterms:W3CDTF">1999-03-02T18:20:11Z</dcterms:modified>
  <cp:revision>1</cp:revision>
  <dc:subject/>
  <dc:title>No Slide Title</dc:title>
</cp:coreProperties>
</file>