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EB0-F3D5-41A8-9C7F-D1ADB234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E5C-FF87-4419-B2EE-9A49B0E3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2D7-0102-4A52-8AEB-E437CEE7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4BB-B55E-4876-A957-E70A2E74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77B-03BB-4385-8D32-658ACBD5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569-3B9C-4792-8DCC-DECFEFE1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17D-6B2A-44B4-94B7-583EC867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875-B986-4FC2-B80D-7DF388FA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FE4-536A-4F7F-9ED0-12E1ABCF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A5D-494A-4880-8443-5091B70F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773-81D4-494C-BC36-7F96C5AB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5B6-7E2D-4C1B-AB0A-53D0E31E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C1AD-9D53-43C6-B04E-6B75DD4AE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2209680"/>
          <a:ext cx="5545080" cy="595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55450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421880" y="380880"/>
            <a:ext cx="207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7320" y="1219320"/>
            <a:ext cx="39240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23:11:24Z</dcterms:created>
  <dc:creator>dnd</dc:creator>
  <dc:description/>
  <dc:language>en-US</dc:language>
  <cp:lastModifiedBy>Jamie Richards</cp:lastModifiedBy>
  <cp:lastPrinted>1999-03-02T23:41:35Z</cp:lastPrinted>
  <dcterms:modified xsi:type="dcterms:W3CDTF">1999-03-31T01:08:02Z</dcterms:modified>
  <cp:revision>2</cp:revision>
  <dc:subject/>
  <dc:title>No Slide Title</dc:title>
</cp:coreProperties>
</file>