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444-74F7-473E-AF51-BD9D3639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10E-859F-4F9E-9031-F4034815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A2E-48C4-43C3-969D-479142FF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D65-1D26-4583-A2A3-EE959B1E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EC0-C9BD-4B45-8246-EF0DB08F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B3E-9027-4E5F-8E89-9F691CCD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AC9-2079-4AC5-BC6B-EB1508A5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9C0-6974-4ABB-9055-03271409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969-B73B-4E31-AACB-79E01BBA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BC1-82D9-4919-93BE-E7C35C13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515-4D39-49B7-A720-CA3FCB71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848-020B-464B-B332-B6D82C85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3B85-178E-4166-BE42-FFDB40CB0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F51%231" descr=""/>
          <p:cNvPicPr/>
          <p:nvPr/>
        </p:nvPicPr>
        <p:blipFill>
          <a:blip r:embed="rId1"/>
          <a:stretch/>
        </p:blipFill>
        <p:spPr>
          <a:xfrm>
            <a:off x="114480" y="203040"/>
            <a:ext cx="6743520" cy="894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F51%23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99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F51%23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0880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pplication1" descr=""/>
          <p:cNvPicPr/>
          <p:nvPr/>
        </p:nvPicPr>
        <p:blipFill>
          <a:blip r:embed="rId1"/>
          <a:stretch/>
        </p:blipFill>
        <p:spPr>
          <a:xfrm>
            <a:off x="171360" y="0"/>
            <a:ext cx="6686640" cy="91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pplication2" descr=""/>
          <p:cNvPicPr/>
          <p:nvPr/>
        </p:nvPicPr>
        <p:blipFill>
          <a:blip r:embed="rId1"/>
          <a:stretch/>
        </p:blipFill>
        <p:spPr>
          <a:xfrm>
            <a:off x="171360" y="0"/>
            <a:ext cx="6686640" cy="91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en" descr=""/>
          <p:cNvPicPr/>
          <p:nvPr/>
        </p:nvPicPr>
        <p:blipFill>
          <a:blip r:embed="rId1"/>
          <a:stretch/>
        </p:blipFill>
        <p:spPr>
          <a:xfrm>
            <a:off x="673200" y="685800"/>
            <a:ext cx="551160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22:00:17Z</dcterms:created>
  <dc:creator>dnd</dc:creator>
  <dc:description/>
  <dc:language>en-US</dc:language>
  <cp:lastModifiedBy>Jamie Richards</cp:lastModifiedBy>
  <cp:lastPrinted>1999-02-23T22:08:29Z</cp:lastPrinted>
  <dcterms:modified xsi:type="dcterms:W3CDTF">1999-04-26T03:35:25Z</dcterms:modified>
  <cp:revision>4</cp:revision>
  <dc:subject/>
  <dc:title>No Slide Title</dc:title>
</cp:coreProperties>
</file>