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14D8-8C05-43D1-BB5C-CDEDE73C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A5B5-B16A-4A40-B71F-5CF86CAC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A7AC-DF1B-483D-90E8-AEDEB13D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32EF-DC1F-4BC9-808C-A99F342E7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49E0-56D4-44F2-A31B-5E541E3C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C549-FF90-4EF4-9EEE-604A73E2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83AB-7810-410D-8F38-911DE86A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0551-C5AE-409C-BA29-0623F3D6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167F-983A-41B6-9194-E87E41D9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5A27-DAB2-4729-BA9E-425AFFC5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07E5-362E-4AD7-9741-29C43AA5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C29B-04DC-415E-90B1-27EA18B1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D273-4D48-4C40-BFB8-9AE6DA0D7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565452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Lead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6091200" cy="838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58:12Z</dcterms:created>
  <dc:creator>dnd</dc:creator>
  <dc:description/>
  <dc:language>en-US</dc:language>
  <cp:lastModifiedBy>dnd</cp:lastModifiedBy>
  <cp:lastPrinted>1998-12-18T14:03:14Z</cp:lastPrinted>
  <dcterms:modified xsi:type="dcterms:W3CDTF">1999-01-13T15:20:17Z</dcterms:modified>
  <cp:revision>6</cp:revision>
  <dc:subject/>
  <dc:title>No Slide Title</dc:title>
</cp:coreProperties>
</file>