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411-2DEC-4A3C-BF65-B2363027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84A-9A43-48A2-AE8B-0AD9EFA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E73-BB40-4CCA-83FD-FD7AC8B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E93-A1ED-4712-AC98-5CFB16F4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1A0-3AF0-4541-88DD-57EB43D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357-AD64-4A05-960D-8DB2970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5AD-2B8F-446D-8A72-5D50544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F20-1EC4-4046-AD23-C5D2E4A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858-7602-4BCA-95E2-BE3E50B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31D-C78D-4004-88C9-E6A2E80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A7A-3E47-47AD-BB95-F3EFEF9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F9D-5389-42E6-A09B-D1CAE11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3FF-0C98-4E16-B88A-06729AE9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3:51:44Z</dcterms:modified>
  <cp:revision>25</cp:revision>
  <dc:subject/>
  <dc:title>Navigating Position</dc:title>
</cp:coreProperties>
</file>