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4FF7-1638-498A-A8E8-DF304165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31B4-2A8C-4706-87A7-1365C16D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FE11-CAD0-4090-B4B0-25865F0C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3B92-BEF0-4727-B3EB-84096A9F9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ADD0-0E76-4E80-A4F0-7525CE85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EBEF-3CE0-4E6D-8532-78150F1D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5E9F-902B-4AF3-A60F-DF63DE33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69AF-D8A8-4377-BEAF-EFCDD2C7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47C9-AEAD-4AE0-B401-182920F0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903B-992A-4656-87E5-46571376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D61E-088B-41A8-8D0F-5505844B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5057-949A-49B1-8607-02E41303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94B4-E96E-4CCD-9DE8-55EE68AA8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3049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UADRON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2743200"/>
            <a:ext cx="6019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3809880"/>
            <a:ext cx="6019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4876920"/>
            <a:ext cx="6019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symbols4" descr=""/>
          <p:cNvPicPr/>
          <p:nvPr/>
        </p:nvPicPr>
        <p:blipFill>
          <a:blip r:embed="rId1"/>
          <a:srcRect l="1429" t="37860" r="66572" b="15085"/>
          <a:stretch/>
        </p:blipFill>
        <p:spPr>
          <a:xfrm>
            <a:off x="6477120" y="5638680"/>
            <a:ext cx="838080" cy="463680"/>
          </a:xfrm>
          <a:prstGeom prst="rect">
            <a:avLst/>
          </a:prstGeom>
          <a:ln w="0">
            <a:noFill/>
          </a:ln>
        </p:spPr>
      </p:pic>
      <p:pic>
        <p:nvPicPr>
          <p:cNvPr id="49" name="symbols4" descr=""/>
          <p:cNvPicPr/>
          <p:nvPr/>
        </p:nvPicPr>
        <p:blipFill>
          <a:blip r:embed="rId2"/>
          <a:srcRect l="1429" t="37860" r="66572" b="15085"/>
          <a:stretch/>
        </p:blipFill>
        <p:spPr>
          <a:xfrm>
            <a:off x="533520" y="1600200"/>
            <a:ext cx="838080" cy="463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rot="16200000">
            <a:off x="6392520" y="1760400"/>
            <a:ext cx="609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8305920" y="18288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16002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142640" y="259092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34290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36576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44956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4724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55627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06632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4724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066680" y="5562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06632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066680" y="3657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066680" y="3429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066680" y="25909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3657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2590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38880" y="449568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62920" y="36576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62920" y="34290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3888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8145360" y="5189400"/>
            <a:ext cx="609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7467120" y="4572000"/>
            <a:ext cx="8384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48720" y="1600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8305920" y="159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599840" y="160020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495680" y="838080"/>
            <a:ext cx="0" cy="6098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2743200"/>
            <a:ext cx="5335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2952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60020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810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3623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6668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0481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42900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7339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0384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4197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80060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1055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4100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1500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0199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3244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553080" y="29714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2952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718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578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771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866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88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1680" y="1827720"/>
            <a:ext cx="168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RTING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02:10:20Z</dcterms:created>
  <dc:creator>DND</dc:creator>
  <dc:description/>
  <dc:language>en-US</dc:language>
  <cp:lastModifiedBy>DND</cp:lastModifiedBy>
  <dcterms:modified xsi:type="dcterms:W3CDTF">1999-03-23T02:11:02Z</dcterms:modified>
  <cp:revision>1</cp:revision>
  <dc:subject/>
  <dc:title>No Slide Title</dc:title>
</cp:coreProperties>
</file>