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657-F46C-4DEF-B6EB-A024AF9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3FA-58B5-44B6-B345-B8C369B2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A47-F9E1-4C67-8202-8DDB2581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3D7-3FB5-49A4-8967-61DAAD5E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7EB-E73B-4077-8ACD-E888CE7A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9DF-78F2-4B28-B593-8F103897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520-35EB-4499-ABDA-5043820D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2FF-16F6-43FE-9C78-731CD6C8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23D-9F30-4CE7-9B84-8C5BAFB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D82-3663-4A24-86E1-28A10954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D4C-1728-4F72-80EF-C9D4B5C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418-F39E-4C6B-A9C2-9EE3013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C381-F63E-4B3D-945B-C663ADB8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905120"/>
          <a:ext cx="4665600" cy="5943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05120"/>
                    <a:ext cx="46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0:37Z</dcterms:modified>
  <cp:revision>4</cp:revision>
  <dc:subject/>
  <dc:title>No Slide Title</dc:title>
</cp:coreProperties>
</file>