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F19-D01F-4BD2-9FBA-AB5D7F85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992-DC9B-4FFC-8861-E063817D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EF1-9EDF-414F-915D-0285637A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FC1-4B74-42CF-B76D-0A5638C9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D2F-F82C-42B8-BD59-76927E00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FBE-59A2-44EA-BB2D-F99E693B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23D0-19F3-4B22-9965-CAA7E12F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6BA-0A7F-4171-89A8-308F7442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8551-1538-4772-8F95-4DB5C68D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55CA-AE96-4F33-9501-99FE5820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773-C6DE-4DE5-876B-EA92852D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B03-9021-49C1-8818-7DB4C10B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04E4-CC72-4D97-85B1-81A0B35E8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532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8088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OR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447920"/>
            <a:ext cx="640080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ale is a 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ate of mi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. It directly influences the performance and proficiency of individuals and, therefore, that of the organization itsel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ale is about how a person feels about his/her job, not a reflection of how/she feels about the unit or organization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7400" y="5867280"/>
            <a:ext cx="28195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32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ORALE IS INFLUENCED BY THE FOLLOWING FACTO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514600"/>
            <a:ext cx="6400800" cy="57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Purpo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dershi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iplin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f-respec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radeshi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tual Conf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det’s well-Being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fort and Welf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2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TTITUDES THAT MAKE UP MOR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828800"/>
            <a:ext cx="6400800" cy="46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ate of anyone’s morale at any given time depends upon and is measurable by their attitud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quadr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mselv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ir companions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ir l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6172200"/>
            <a:ext cx="2362320" cy="2216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76920" y="5943600"/>
            <a:ext cx="10238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32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8088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SPRIT DE COR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447920"/>
            <a:ext cx="662940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represents one’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ri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belonging to a particular organization or unit. Basically it can be described as you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nse of group ident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contribute to the development of esprit de corps by exerting your influence and personality in the following 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de in the Grou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quen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dition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ynamic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29000" y="6515280"/>
            <a:ext cx="312408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32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80880"/>
            <a:ext cx="62485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DIFFERENCES BETWEEN MORALE AND ESPRIT DE COR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514600"/>
            <a:ext cx="640080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par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ntities. Either can exist independently of the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ale is how you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e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bout your job, your leaders, yourself. Esprit de corps, on the other hand, is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ri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 have in your group, unit or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38280" y="5791320"/>
            <a:ext cx="1835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5T12:34:36Z</cp:lastPrinted>
  <dcterms:modified xsi:type="dcterms:W3CDTF">1999-03-15T12:34:38Z</dcterms:modified>
  <cp:revision>32</cp:revision>
  <dc:subject/>
  <dc:title>No Slide Title</dc:title>
</cp:coreProperties>
</file>