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B90-0C21-406E-8810-3DFE87D5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A9B-9F47-41FE-913F-C25C01C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3D1-123C-4E51-AF25-3543FD20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CD2-4479-4C82-A0E9-C96353A0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481-D488-4725-B909-E9DA484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5A9-E4F0-4D18-9A9E-60411219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044-9229-402A-946C-87866408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7BC-2A16-42A4-89B6-2A688523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B76-5B11-413C-B8DB-FCA7BD7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C48-5D53-48A4-A362-74177ED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3B9-FF0B-44AB-A30F-7FCC08C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437-D6FD-4CE7-B80F-726B736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980-3405-4194-B2ED-804915C2E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248520" cy="65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HASIZE THE STRONG POI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SEARCH FOR A FORMU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RELY COMPLETELY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DWICH METHO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IMPROV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SPECIFI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CH HABIT PATER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YOUR CRITICISM JOB-REL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QUES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RITICIZE A CADET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NTENTIONAL FAUL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RY TO BE FUNNY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AR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INTER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26T15:34:23Z</dcterms:modified>
  <cp:revision>41</cp:revision>
  <dc:subject/>
  <dc:title>No Slide Title</dc:title>
</cp:coreProperties>
</file>