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65A-4704-469C-BE67-5935CF78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E27-7BDB-455A-9285-AE923B5A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040-F2D9-4D96-9A7C-536B1252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99D-AA43-4201-8089-6B4BC3E0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47B-D958-46C5-81F5-3070382A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7C3-0C6E-4EC6-8087-F18DD101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F75-BDD4-405D-A159-C2F51225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044-96A4-421F-91A7-9D1D117C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036-28A4-4B92-A1EB-E369618E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903-8D5F-47D6-9099-C13F659C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DBA-406D-4053-BD39-4439C77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F03-57BA-4282-B8FA-A2E01A22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DD77-8E65-4785-93C0-D45B829AB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DND</cp:lastModifiedBy>
  <cp:lastPrinted>1999-01-12T15:16:38Z</cp:lastPrinted>
  <dcterms:modified xsi:type="dcterms:W3CDTF">1999-01-12T15:17:34Z</dcterms:modified>
  <cp:revision>1</cp:revision>
  <dc:subject/>
  <dc:title>No Slide Title</dc:title>
</cp:coreProperties>
</file>