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C99-866F-4D30-8DD7-595B24DF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918-0EA2-4659-81D5-62112E7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5EE-4712-47FB-8F25-829433FC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5E4-5D5E-4F85-8946-0CD2CE38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16D-00BA-470C-A962-D654ECF7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C1E-A9D6-4810-9C54-2A1D5FAB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7A5-593D-4ED9-BEA4-3767A38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534-790D-4ECF-A1C9-8A2F2A2A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643-8B74-4058-B88E-059953F1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804-36AA-4869-A4DC-C4E7FEE3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93A-772D-4951-B8BE-9968A32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844-0FBE-424A-8E9F-9B145CE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86B-C131-427C-9434-45E9948E7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ed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irplane’s speed as indicated by the airspeed indic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tual speed of the airplane through the air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peed of the airplane relative to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tic Meri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rection in which a compass needle will lie when influenced only by the Earth’s magnetic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ss Nor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irection in which a particular compass needle will lie when influenced by both the Earth’s magnetic field and local magnetic influences (deviation) in the air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efers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to or from any point, measured as an angle clockwise from a merid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ir in motion, especially a mass of air having a common direction or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angle between the heading being flown and the track made good over the 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eading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 an airplane is the angle between the longitudinal axis of the airplane at any moment and a meridia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ther words, it is the direction the nose of the aircraft is point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different than a bearing.  A bearing from an aircraft to a particular location would not necessarily be the same as the direction the plane was head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intended) is the direction an airplan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intend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travel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Made Goo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actu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ath traveled by the airplane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Error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, measured in degrees either left or right of the required track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old required track and the new required track necessary to arrive at th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33:38Z</dcterms:created>
  <dc:creator>DND</dc:creator>
  <dc:description/>
  <dc:language>en-US</dc:language>
  <cp:lastModifiedBy>Jamie Richards</cp:lastModifiedBy>
  <cp:lastPrinted>1999-03-17T14:50:24Z</cp:lastPrinted>
  <dcterms:modified xsi:type="dcterms:W3CDTF">1999-03-31T04:00:09Z</dcterms:modified>
  <cp:revision>3</cp:revision>
  <dc:subject/>
  <dc:title>NAVIGATION TERMS</dc:title>
</cp:coreProperties>
</file>