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84E-6A3E-4F34-B1EC-EBF0AAD6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F21-31B8-444F-9728-153854B7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536-C04D-4B6D-9A80-69EF598B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584-2B3B-48D0-B632-AEDF8952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129-EC94-4B1F-9A0F-1429A608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082-D5D1-46A9-A56A-4996D88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35D-0B4B-49DA-B4FE-2717D15D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98F-F416-4C6F-9038-8AF95133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B87-1094-4199-BC67-EDAE8935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B7D-8BD9-488C-95B0-E00AA6CA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BFD-CA2F-4503-B93E-E8E2419A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551-729F-469C-B42A-9961AD29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7CFF-68F6-4EAB-844B-EB753B78A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4:57:24Z</cp:lastPrinted>
  <dcterms:modified xsi:type="dcterms:W3CDTF">1999-03-12T14:59:07Z</dcterms:modified>
  <cp:revision>20</cp:revision>
  <dc:subject/>
  <dc:title>No Slide Title</dc:title>
</cp:coreProperties>
</file>