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4F5-BF76-44C1-8137-E6895D87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E46-A1A3-4E58-9DBD-1A99AA7E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17B-328A-414E-99CF-2005CFB7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EF3-7D02-4180-AF7A-AD6DDB10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99A-F4C3-494A-9C59-F55443D5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D9C-3BE5-4366-A282-78C07DEC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5A9-FEE4-4713-8702-DEE2B290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461-F1EB-4C81-B525-2DC56BAB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67F-A7B0-4DD5-805E-1DCE999A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869-D5B8-49BC-9456-BB1F97DC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93C-5E75-4691-A0B7-E32DDA3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6CC-EADB-4559-8F20-296BBA6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03D-EEC4-47D8-90E7-21FEAD740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7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057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2971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PAS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343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56386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CTION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926120" y="51800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684720" y="4340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MUM 3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88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24680" y="4343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5638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2240" y="441972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7150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144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UTING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31:02Z</dcterms:created>
  <dc:creator>DND</dc:creator>
  <dc:description/>
  <dc:language>en-US</dc:language>
  <cp:lastModifiedBy>dnd</cp:lastModifiedBy>
  <cp:lastPrinted>1999-03-18T18:18:34Z</cp:lastPrinted>
  <dcterms:modified xsi:type="dcterms:W3CDTF">1999-03-28T20:01:43Z</dcterms:modified>
  <cp:revision>16</cp:revision>
  <dc:subject/>
  <dc:title>No Slide Title</dc:title>
</cp:coreProperties>
</file>