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E64-6B2C-4C68-BFD6-CAB2B31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DF9-8881-4EDA-90AC-1BB7625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9AB-337B-4F23-BBB1-9F46F920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806-C069-4248-B40E-F44FF3C2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295-0E2E-4F7D-930C-CCC8095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EB5-7DE0-4AEB-B93C-06A1D05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394-E4F4-4A96-AA8F-F49C2FD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410-DAEA-4BF7-A22A-E639274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57F-72CB-4FC8-99B9-C54D5E7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43D-7794-4848-935E-3FE24F32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8AC-85F5-41D0-BEB6-5123821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AB-84D2-4B0B-9B18-534005D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2E3-0419-410F-A2F9-50AD1128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65530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3-02T13:28:36Z</dcterms:modified>
  <cp:revision>29</cp:revision>
  <dc:subject/>
  <dc:title>No Slide Title</dc:title>
</cp:coreProperties>
</file>