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022-1939-4F8F-BB4F-4738F23C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859-37AB-47A3-8515-8D4DE280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839-A6A1-4CCC-83D5-DEA21476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F53-4810-4A9D-A2B3-6FF4FEA1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8D4-4176-4FA9-8E74-E44375D3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F6F-BD18-4B49-A914-2D609CC6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117-9E4A-48B8-9AB5-7414A424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1D0C-960A-4FF3-9ABB-ACAE4DDB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F4F-C4FA-4B7F-B01E-C6DDCA41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EB8-ADD8-40BF-AB39-6AE3AB03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8D4-8D00-4902-87D3-6E34D8FC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E415-0C50-491C-9906-752B789D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AA53-A1C9-42A1-B848-E28E52EBC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ONENTS of a MEMORAND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MO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le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e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ture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agraph Di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838080"/>
            <a:ext cx="63248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4652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ustin%20hoffman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23749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19:30Z</dcterms:created>
  <dc:creator>DND</dc:creator>
  <dc:description/>
  <dc:language>en-US</dc:language>
  <cp:lastModifiedBy>Jamie Richards</cp:lastModifiedBy>
  <dcterms:modified xsi:type="dcterms:W3CDTF">1999-04-26T03:09:15Z</dcterms:modified>
  <cp:revision>9</cp:revision>
  <dc:subject/>
  <dc:title>COMPONENTS of a MEMORANDUM</dc:title>
</cp:coreProperties>
</file>