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B57-C1A4-4737-8B2D-8FF179EC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E45-F41D-482B-846A-C01D5201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02D-409D-45DD-A2F6-EAB95CCD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790-FEBF-4DE0-AD6A-6D02CD68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D8C-95B6-44BE-AD13-F6A35090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417-1171-4B01-84E6-4848ACBD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805-6BCC-417D-8DFB-AF0D8284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680-5F46-4B40-AF1E-F6454C3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581-D29D-417A-BBCB-48A2D71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DA4-0657-4D50-A105-E28CD438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C23-7E15-431F-B36B-A92FF82D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CA0-82E8-483A-AB36-CE74B7F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330F-F072-4BA1-BC97-A72CAE407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3:42Z</dcterms:modified>
  <cp:revision>27</cp:revision>
  <dc:subject/>
  <dc:title>Navigating Position</dc:title>
</cp:coreProperties>
</file>