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B4FC-1576-4307-91C8-9F841C61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32E1-ED41-40DE-AA8E-A5D096C0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7F6B-C825-4461-B742-C09F138F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19C-7A82-4053-8BC2-450E9FF3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B7F8-84EF-41E9-A1ED-8FC0CF56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8AB-2358-46F9-ADBE-98CE4AFD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9C2-F4E4-408E-B6DA-E194A69E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A59-EF29-4DA2-9D67-7325CAD1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2F6-9FDD-4C33-B457-F10D7C1D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7B78-B669-4A2D-8D6A-DE6F059E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DCD5-134F-49FF-B7F2-1F19174C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3B2-91BA-4AE9-826E-A163320E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4E29-B8D0-4697-A053-F1907C318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886200" y="914400"/>
          <a:ext cx="8078760" cy="92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914400"/>
                    <a:ext cx="807876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828800" y="1905120"/>
          <a:ext cx="6242040" cy="6377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905120"/>
                    <a:ext cx="6242040" cy="63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5T23:49:29Z</dcterms:modified>
  <cp:revision>23</cp:revision>
  <dc:subject/>
  <dc:title>No Slide Title</dc:title>
</cp:coreProperties>
</file>