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8B7-D1F6-4CC6-BCCB-216EFD10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5E5-1E5B-481D-9FBE-D293C6A1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025-1C04-44AF-92A1-928212E5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39B-6F7E-492F-94ED-AD01BB5E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E97-FD6B-4E81-9063-23818EE1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61E-9E6D-4626-9452-C19F59BF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615-F8B1-4FDF-877F-C007E93D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E87-5391-4AD6-BEFB-EBC07BD1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537-2F14-4FFC-B817-60394776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8E4-63EB-4CA3-9373-E0435698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236-39ED-4713-AE77-EEC71BDE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C82-D20E-4F36-95CC-A9CE014F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C2F2-9932-4A78-8829-F31DCA228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880"/>
            <a:ext cx="640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FORE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ings which you need to be aware of before you go into an interview. These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dress and deport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physical behaviour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ay you answ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1430280" cy="343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12160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92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URING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752480"/>
            <a:ext cx="640080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eath deeply, get rid of any bubble gum, ensure that your breath is fresh and, especially, rela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i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ke hands, firmly,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some gratitude for the opportunity given to you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not sit before you are asked to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 eye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ONCE IN THE INTERVIEW……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676520"/>
            <a:ext cx="6629400" cy="70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honest and direct with the responses to ques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answering questions with a mere yes or n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smiling and keep your positive attitude. There is no place for negative comments or sarcas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before answering any questions. Take a few seconds to formulate a complete and logical respon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e a couple of questions on the company, or the job itself, to ask at the end of the inter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FTER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66294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 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ke hands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your thank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ure that you do not leave anything personal behind you (coat, binder, purse, etc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lk straight and calmly to the do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a large smile on your face as you leave the room. The interview is o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6934320"/>
            <a:ext cx="2133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08T20:22:02Z</cp:lastPrinted>
  <dcterms:modified xsi:type="dcterms:W3CDTF">1999-03-01T19:07:07Z</dcterms:modified>
  <cp:revision>28</cp:revision>
  <dc:subject/>
  <dc:title>No Slide Title</dc:title>
</cp:coreProperties>
</file>