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597-F0BB-42E4-9946-4200D7C9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B3E-F7CE-4111-BBC4-2D5F45CC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B66-D738-453A-98FD-0EF43282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155-8E9F-46F1-BD45-01F34815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DDA-9F18-4489-8A90-B93B150E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455-31CD-4EC5-B1DC-F8C1170C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927-02B5-489D-BDBB-63DA602F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A8F-17A4-44FD-BE7D-F9F456E8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192-37FE-4B4C-9D51-613064B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716-1ED6-42BF-8099-6F0F304E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F88-07C0-4155-A2E5-9745E51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DD7-829D-4EFB-AB2C-22C7D99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326B-25BE-4C55-8213-34163B4F4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2-11bmp" descr=""/>
          <p:cNvPicPr/>
          <p:nvPr/>
        </p:nvPicPr>
        <p:blipFill>
          <a:blip r:embed="rId1"/>
          <a:stretch/>
        </p:blipFill>
        <p:spPr>
          <a:xfrm>
            <a:off x="689040" y="411120"/>
            <a:ext cx="5711760" cy="83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4:01:22Z</dcterms:created>
  <dc:creator>DND</dc:creator>
  <dc:description/>
  <dc:language>en-US</dc:language>
  <cp:lastModifiedBy>Jamie Richards</cp:lastModifiedBy>
  <dcterms:modified xsi:type="dcterms:W3CDTF">1999-04-23T18:32:02Z</dcterms:modified>
  <cp:revision>2</cp:revision>
  <dc:subject/>
  <dc:title>No Slide Title</dc:title>
</cp:coreProperties>
</file>