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54E-E3DE-422A-8573-BA4C1A05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700-3336-48FE-AAEA-A3D774D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EA3-BEEA-4D83-B95F-797DBA20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CA0-8A65-4752-823E-BDE853BF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228-69D6-43A8-BE48-1E52D94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4E6-5C15-495A-B181-02549E7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6D9-74C6-4AFB-AC16-03F6C05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D1D-2690-474C-8A4A-B834EC71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C21-0BAA-4EFF-9270-9594C01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9FB-65B0-4E6F-9516-4E2CDED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055-CA87-414A-B9E0-5C48169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03C-8399-4D31-A5E2-41E61AA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E90-BC90-4ABB-81C5-960E9E2B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’s of MILIT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249440" cy="4568760"/>
          </a:xfrm>
          <a:prstGeom prst="rect">
            <a:avLst/>
          </a:prstGeom>
          <a:ln w="0">
            <a:noFill/>
          </a:ln>
        </p:spPr>
      </p:pic>
      <p:pic>
        <p:nvPicPr>
          <p:cNvPr id="47" name="deskbean" descr=""/>
          <p:cNvPicPr/>
          <p:nvPr/>
        </p:nvPicPr>
        <p:blipFill>
          <a:blip r:embed="rId2"/>
          <a:stretch/>
        </p:blipFill>
        <p:spPr>
          <a:xfrm>
            <a:off x="3405240" y="182880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ervices of an individual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changes 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a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2162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05:16Z</dcterms:created>
  <dc:creator>DND</dc:creator>
  <dc:description/>
  <dc:language>en-US</dc:language>
  <cp:lastModifiedBy>Jamie Richards</cp:lastModifiedBy>
  <dcterms:modified xsi:type="dcterms:W3CDTF">1999-04-26T03:08:52Z</dcterms:modified>
  <cp:revision>5</cp:revision>
  <dc:subject/>
  <dc:title>ABC’s of MILITARY WRITING</dc:title>
</cp:coreProperties>
</file>