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B9C-F0A9-43DF-80C5-AC97F9BF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4BF-A519-4290-8DE8-9ECEA326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0077-DB96-4C2B-A89B-5F6B6350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217A-1578-40BC-ADAC-50F00A32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ACA-A311-482C-82A8-18812DC7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8C44-6575-44DD-BFBE-AD2C862A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246-26EE-4CB6-A1C9-3CFC0742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962-5B29-477E-9CFC-D44794D6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4CB-F82E-4B93-B855-B92912AD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57E-A0B8-4C02-812E-4BE209F6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9C0-D005-4B57-8391-19B3E14B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1CA-0BBD-48B3-A082-5EC40606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D6FC-A3BA-4C41-A1D3-53427D93E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DRON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74320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380988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87692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ymbols4" descr=""/>
          <p:cNvPicPr/>
          <p:nvPr/>
        </p:nvPicPr>
        <p:blipFill>
          <a:blip r:embed="rId1"/>
          <a:srcRect l="1429" t="37860" r="66572" b="15085"/>
          <a:stretch/>
        </p:blipFill>
        <p:spPr>
          <a:xfrm>
            <a:off x="6477120" y="5638680"/>
            <a:ext cx="838080" cy="463680"/>
          </a:xfrm>
          <a:prstGeom prst="rect">
            <a:avLst/>
          </a:prstGeom>
          <a:ln w="0">
            <a:noFill/>
          </a:ln>
        </p:spPr>
      </p:pic>
      <p:pic>
        <p:nvPicPr>
          <p:cNvPr id="49" name="symbols4" descr=""/>
          <p:cNvPicPr/>
          <p:nvPr/>
        </p:nvPicPr>
        <p:blipFill>
          <a:blip r:embed="rId2"/>
          <a:srcRect l="1429" t="37860" r="66572" b="15085"/>
          <a:stretch/>
        </p:blipFill>
        <p:spPr>
          <a:xfrm>
            <a:off x="533520" y="1600200"/>
            <a:ext cx="838080" cy="463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6200000">
            <a:off x="6392520" y="1760400"/>
            <a:ext cx="609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305920" y="1828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16002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142640" y="25909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34290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3657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4495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4724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55627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3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066680" y="5562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663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066680" y="3657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066680" y="34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066680" y="2590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3657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2920" y="3429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8145360" y="5189400"/>
            <a:ext cx="609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467120" y="4572000"/>
            <a:ext cx="8384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487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305920" y="159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599840" y="16002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95680" y="8380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274320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2952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6002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810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3623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6668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0481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4290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7339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0384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4197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8006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055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100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199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3244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553080" y="2971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295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680" y="1827720"/>
            <a:ext cx="168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1T15:20:34Z</dcterms:created>
  <dc:creator>DND</dc:creator>
  <dc:description/>
  <dc:language>en-US</dc:language>
  <cp:lastModifiedBy>DND</cp:lastModifiedBy>
  <cp:lastPrinted>1999-02-11T17:26:48Z</cp:lastPrinted>
  <dcterms:modified xsi:type="dcterms:W3CDTF">1999-03-19T13:59:36Z</dcterms:modified>
  <cp:revision>6</cp:revision>
  <dc:subject/>
  <dc:title>No Slide Title</dc:title>
</cp:coreProperties>
</file>