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41E-1AF0-45D5-B0C1-FF858B41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FFE-4443-4F7D-A6CF-8D91961D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B50-A295-4585-B592-AE281851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21B-56D7-46B7-9FC1-D017958B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CD2-F16D-43B4-8D5B-F4DD7622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BD0-9F26-4885-B781-1F47E52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8F1-0C8F-4588-939B-096F248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EEE-4A50-42CA-96BA-FE0E6E3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406-EFEC-4F67-928B-48EE8C7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5E4-5E70-4153-9022-198F025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235-E4D6-4F19-BFB4-3FEEF61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4CF-B595-4BBC-91A6-F5EB3D6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92BF-7FE0-4524-B688-CF35EB3E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00Z</dcterms:modified>
  <cp:revision>23</cp:revision>
  <dc:subject/>
  <dc:title>No Slide Title</dc:title>
</cp:coreProperties>
</file>