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740-978B-4634-962C-52778BDC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7C2-C18A-4BC5-A301-7E323A32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430-10B8-4007-8A3F-AC8C465B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352-A95A-47E9-8F4C-11C16AFA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6F8-A576-4794-89C6-DC17AF14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E39-CF80-4B56-B65E-2F6B00FA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51E1-DC2A-4C23-BFFA-204C6A0F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DC3-B23E-49E6-9841-80157A17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3E7-E69D-4C8E-81AC-B613F1DC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6A5-5741-4D4D-B689-4D2E6B30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101-4C7A-41F7-8ABF-D5973431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B5D-EEC1-47A9-ABCF-06EF5E56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2A44-8190-424D-BD9B-53E3BCFAD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ambert" descr=""/>
          <p:cNvPicPr/>
          <p:nvPr/>
        </p:nvPicPr>
        <p:blipFill>
          <a:blip r:embed="rId1"/>
          <a:srcRect l="0" t="3400" r="0" b="4987"/>
          <a:stretch/>
        </p:blipFill>
        <p:spPr>
          <a:xfrm>
            <a:off x="152280" y="1600200"/>
            <a:ext cx="8763120" cy="4594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17200" y="146160"/>
            <a:ext cx="590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Lambert Confor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ic Pro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20040" y="163440"/>
            <a:ext cx="65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Mercator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ercator" descr=""/>
          <p:cNvPicPr/>
          <p:nvPr/>
        </p:nvPicPr>
        <p:blipFill>
          <a:blip r:embed="rId1"/>
          <a:stretch/>
        </p:blipFill>
        <p:spPr>
          <a:xfrm>
            <a:off x="463680" y="1373040"/>
            <a:ext cx="807084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7240" y="212760"/>
            <a:ext cx="88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Transverse Mercator Pro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transmercator" descr=""/>
          <p:cNvPicPr/>
          <p:nvPr/>
        </p:nvPicPr>
        <p:blipFill>
          <a:blip r:embed="rId1"/>
          <a:srcRect l="10860" t="8988" r="11298" b="10179"/>
          <a:stretch/>
        </p:blipFill>
        <p:spPr>
          <a:xfrm>
            <a:off x="457200" y="1681200"/>
            <a:ext cx="80010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52280"/>
            <a:ext cx="85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ch the projection type with the correct name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transmercator" descr=""/>
          <p:cNvPicPr/>
          <p:nvPr/>
        </p:nvPicPr>
        <p:blipFill>
          <a:blip r:embed="rId1"/>
          <a:srcRect l="10860" t="8988" r="11298" b="10179"/>
          <a:stretch/>
        </p:blipFill>
        <p:spPr>
          <a:xfrm>
            <a:off x="304920" y="1069920"/>
            <a:ext cx="2438280" cy="1276560"/>
          </a:xfrm>
          <a:prstGeom prst="rect">
            <a:avLst/>
          </a:prstGeom>
          <a:ln w="0">
            <a:noFill/>
          </a:ln>
        </p:spPr>
      </p:pic>
      <p:pic>
        <p:nvPicPr>
          <p:cNvPr id="61" name="mercator2" descr=""/>
          <p:cNvPicPr/>
          <p:nvPr/>
        </p:nvPicPr>
        <p:blipFill>
          <a:blip r:embed="rId2"/>
          <a:stretch/>
        </p:blipFill>
        <p:spPr>
          <a:xfrm>
            <a:off x="533520" y="4484520"/>
            <a:ext cx="1874880" cy="2068560"/>
          </a:xfrm>
          <a:prstGeom prst="rect">
            <a:avLst/>
          </a:prstGeom>
          <a:ln w="0">
            <a:noFill/>
          </a:ln>
        </p:spPr>
      </p:pic>
      <p:pic>
        <p:nvPicPr>
          <p:cNvPr id="62" name="lambert2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1479600" cy="2243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05880" y="5502240"/>
            <a:ext cx="33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 Lambert Confor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ic Projec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81760" y="3825720"/>
            <a:ext cx="346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Transverse Mer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90040" y="1981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Mercator Proj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40120" y="762120"/>
            <a:ext cx="32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8320" y="58672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320" y="38862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8320" y="1828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6240" y="275904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Tubular Mer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8040" y="480060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Polar Proj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1T19:22:24Z</dcterms:created>
  <dc:creator>RC Air Cadets</dc:creator>
  <dc:description/>
  <dc:language>en-US</dc:language>
  <cp:lastModifiedBy>Jamie Richards</cp:lastModifiedBy>
  <cp:lastPrinted>1999-03-27T18:43:54Z</cp:lastPrinted>
  <dcterms:modified xsi:type="dcterms:W3CDTF">1999-03-31T03:55:43Z</dcterms:modified>
  <cp:revision>6</cp:revision>
  <dc:subject/>
  <dc:title>No Slide Title</dc:title>
</cp:coreProperties>
</file>