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8D0-0FDF-4872-978D-ACF0BED1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27E-682B-4DAF-9268-54007452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CC0-FB5A-483D-A3D7-D169B8F3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1E0-341B-4757-9100-25082663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937-2A34-45D9-AA93-4EEA1135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832-0B90-47BE-9EC9-179B0AE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9D8-CF94-47F2-B293-4E3EA25A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CE1-7CFC-4A14-BA8E-C30137E1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1C5-CBE2-4568-84CF-93A11612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18C-B198-42C6-B9D8-2FBA32A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E31-8A75-402B-8374-9E2117CB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150-07F6-4ECC-A51F-33D3924C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7CFD-5879-43A3-8106-069EA02B7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762120"/>
            <a:ext cx="41907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f all your cadets work together to achieve the same goal, they will have a tendency to stick closely together and push in the same di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Before morale can be generated, individual members of the organization must have their own feelings of ________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Problems that the cadets may be having at home, in school or even at the squadron can grow and ruin morale and efficienc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Once self-respect is achieved, ______in the organization should be stim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This is closely linked to comradeship but tends to be a form of mutual respect between cadets based on each other's professional 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914400"/>
            <a:ext cx="419076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s is an intangible but is, nevertheless, real. You must encourage group members to develop a sense of loyalty, a sense of family and a sense of hum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_________ is essential for fostering good morale in air cad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adets will work long hours under bad conditions and morale will not be affected, provided that you tell them why and they are satisfied that you have a sincere interest in their wel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By setting a poor example and neglecting to practice what is taught, you, as the leader, can destroy morale. Nothing succeeds like succes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324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6019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2T13:33:27Z</cp:lastPrinted>
  <dcterms:modified xsi:type="dcterms:W3CDTF">1999-03-02T14:10:30Z</dcterms:modified>
  <cp:revision>28</cp:revision>
  <dc:subject/>
  <dc:title>No Slide Title</dc:title>
</cp:coreProperties>
</file>