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6858000" cy="9144000"/>
  <p:notesSz cx="68580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EA487-2DEF-4D98-AA1F-3C18B0D73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16D03-50FE-4E58-9D40-8BA1FB133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0F62B-CE16-4A85-AB9F-84549E2E4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B9EC8-7C3A-4734-A35F-4319047E3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8FE91-6486-46F4-810D-599B47AA1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108F5-EF51-418E-861B-290F88179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02460-4AC9-47CD-ADC3-83425DE5B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FB91E-5E9A-4C2B-AE0B-04EF9964C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33C03-9B5C-48A0-B26D-0AE9C62C7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CC102-2681-443C-A702-5C36770E6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901BF-3372-48ED-8035-05E6B7EDD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7F3D9-C1B8-4D97-97E3-AAB8E85D1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BB657-2486-49F9-A872-C168E9A04E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2280" y="8763120"/>
            <a:ext cx="6553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92520" y="8763120"/>
            <a:ext cx="1291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vel Four 408.04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8763120"/>
            <a:ext cx="7621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HP #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1828800"/>
            <a:ext cx="6629400" cy="720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BEFORE THE ACTIVITY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Monotype Sorts" charset="2"/>
              <a:buChar char="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arching for Informatio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buClr>
                <a:srgbClr val="ff0000"/>
              </a:buClr>
              <a:buFont typeface="Monotype Sorts" charset="2"/>
              <a:buChar char="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laborating a Pla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buClr>
                <a:srgbClr val="ff0000"/>
              </a:buClr>
              <a:buFont typeface="Monotype Sorts" charset="2"/>
              <a:buChar char="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ssigning Tasks;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buClr>
                <a:srgbClr val="ff0000"/>
              </a:buClr>
              <a:buFont typeface="Monotype Sorts" charset="2"/>
              <a:buChar char="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lding a Planning Meet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0"/>
              </a:lnSpc>
              <a:spcBef>
                <a:spcPts val="1500"/>
              </a:spcBef>
              <a:buClr>
                <a:srgbClr val="ff0000"/>
              </a:buClr>
              <a:buFont typeface="Monotype Sorts" charset="2"/>
              <a:buChar char="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DURING THE ACTIVITY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buClr>
                <a:srgbClr val="ff0000"/>
              </a:buClr>
              <a:buFont typeface="Monotype Sorts" charset="2"/>
              <a:buChar char="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perv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0"/>
              </a:lnSpc>
              <a:spcBef>
                <a:spcPts val="1500"/>
              </a:spcBef>
              <a:buClr>
                <a:srgbClr val="ff0000"/>
              </a:buClr>
              <a:buFont typeface="Monotype Sorts" charset="2"/>
              <a:buChar char="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AFTER THE ACTIVIT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buClr>
                <a:srgbClr val="ff0000"/>
              </a:buClr>
              <a:buFont typeface="Monotype Sorts" charset="2"/>
              <a:buChar char="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ld a debriefing/Post-Activity Meeting; 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Monotype Sorts" charset="2"/>
              <a:buChar char="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bmit a final Re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47680" y="372240"/>
            <a:ext cx="6305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PLANNING A GROUP ACTIVI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52280" y="8763120"/>
            <a:ext cx="6553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2520" y="8763120"/>
            <a:ext cx="1291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vel Four 408.04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943600" y="8763120"/>
            <a:ext cx="7621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HP #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1600200"/>
            <a:ext cx="6400800" cy="49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e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Searching for Informatio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answer these ques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WHA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s the nature of the activit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WHE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s it scheduled to happ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will it take plac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WHY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s it important to hold this activit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WHO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s responsibl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0"/>
              </a:lnSpc>
              <a:spcBef>
                <a:spcPts val="1500"/>
              </a:spcBef>
              <a:buClr>
                <a:srgbClr val="ff0000"/>
              </a:buClr>
              <a:buFont typeface="Monotype Sorts" charset="2"/>
              <a:buChar char="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6480"/>
            <a:ext cx="685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BEFORE THE ACTIVI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286000" y="6095880"/>
            <a:ext cx="2365200" cy="23655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4267080" y="5410080"/>
            <a:ext cx="1981440" cy="1295640"/>
          </a:xfrm>
          <a:prstGeom prst="cloudCallout">
            <a:avLst>
              <a:gd name="adj1" fmla="val -51444"/>
              <a:gd name="adj2" fmla="val 75856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e 5 W’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52280" y="8763120"/>
            <a:ext cx="6553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2520" y="8763120"/>
            <a:ext cx="1291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vel Four 408.04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943600" y="8763120"/>
            <a:ext cx="7621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HP #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28600" y="532800"/>
            <a:ext cx="6305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ASSIGNING A TAS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04920" y="1517400"/>
            <a:ext cx="617220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spcBef>
                <a:spcPts val="1500"/>
              </a:spcBef>
              <a:buClr>
                <a:srgbClr val="ff0000"/>
              </a:buClr>
              <a:buFont typeface="Monotype Sort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s soon as you receive the green light, name an assistant (2IC) who will assist you in your task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500"/>
              </a:spcBef>
              <a:buClr>
                <a:srgbClr val="ff0000"/>
              </a:buClr>
              <a:buFont typeface="Monotype Sort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legate secondary tasks to subordinates. Do not try to do it all yoursel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609480" y="5710320"/>
            <a:ext cx="2743200" cy="2574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962520" y="5562720"/>
            <a:ext cx="218412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52280" y="8763120"/>
            <a:ext cx="6553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2520" y="8763120"/>
            <a:ext cx="1291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vel Four 408.04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943600" y="8763120"/>
            <a:ext cx="7621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HP #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28600" y="456480"/>
            <a:ext cx="6305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HOLDING A PLANNING MEET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04920" y="1652400"/>
            <a:ext cx="6172200" cy="68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spcBef>
                <a:spcPts val="1500"/>
              </a:spcBef>
              <a:buClr>
                <a:srgbClr val="ff0000"/>
              </a:buClr>
              <a:buFont typeface="Monotype Sort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en you determine who your assistants are, meet with them and delegate the different tasks related to the activi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500"/>
              </a:spcBef>
              <a:buClr>
                <a:srgbClr val="ff0000"/>
              </a:buClr>
              <a:buFont typeface="Monotype Sort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nsure they know exactly what they have to accomplis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500"/>
              </a:spcBef>
              <a:buClr>
                <a:srgbClr val="ff0000"/>
              </a:buClr>
              <a:buFont typeface="Monotype Sort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Keep them informed of all changes and ask them to keep you informed as we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500"/>
              </a:spcBef>
              <a:buClr>
                <a:srgbClr val="ff0000"/>
              </a:buClr>
              <a:buFont typeface="Monotype Sort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n a series of target dates for each task being delegated and ask them to provide you with a periodic report (verbal or written) on the progression of their 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Valued Customer</dc:creator>
  <dc:description/>
  <dc:language>en-US</dc:language>
  <cp:lastModifiedBy>dnd</cp:lastModifiedBy>
  <cp:lastPrinted>1999-02-16T13:56:24Z</cp:lastPrinted>
  <dcterms:modified xsi:type="dcterms:W3CDTF">1999-03-15T14:35:12Z</dcterms:modified>
  <cp:revision>38</cp:revision>
  <dc:subject/>
  <dc:title>No Slide Title</dc:title>
</cp:coreProperties>
</file>