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41A-2B44-4FB9-A6B7-780B99DF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FC4-F17D-4D29-B829-22612B39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441-CBFF-47FD-8B97-E3D06DB4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95B-93F1-44C0-8D76-A7E5D8E4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D21-C1E5-4438-8E9D-7B9F6BD5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037-9D02-4A18-A19C-2E7E795F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394-E8E6-483F-9787-48012709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9B0-D111-4501-9E33-AE497375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5F3-101E-4C60-857C-22B3E62A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08A-6C9B-4C80-A379-12402B33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31A-E39F-4977-AB5D-5C11EE4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739-C97C-4635-8764-85C581A1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4A31-D76F-49E9-A6F1-DD964E347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PES OF NAVIGATION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Pilotage Charts (C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R Navigation Charts (V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Aeronautical Charts (W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R Terminal Area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Navigation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21640" y="4114800"/>
          <a:ext cx="181908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1640" y="4114800"/>
                    <a:ext cx="181908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 of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d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35053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LIEF ON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T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 H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h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47968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3280" y="177840"/>
            <a:ext cx="850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ontour Lines and Hach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ap" descr=""/>
          <p:cNvPicPr/>
          <p:nvPr/>
        </p:nvPicPr>
        <p:blipFill>
          <a:blip r:embed="rId1"/>
          <a:srcRect l="0" t="15242" r="0" b="4271"/>
          <a:stretch/>
        </p:blipFill>
        <p:spPr>
          <a:xfrm>
            <a:off x="457200" y="1617840"/>
            <a:ext cx="80773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3:04:32Z</dcterms:created>
  <dc:creator>DND</dc:creator>
  <dc:description/>
  <dc:language>en-US</dc:language>
  <cp:lastModifiedBy>Jamie Richards</cp:lastModifiedBy>
  <cp:lastPrinted>1999-03-17T13:29:04Z</cp:lastPrinted>
  <dcterms:modified xsi:type="dcterms:W3CDTF">1999-03-31T03:57:19Z</dcterms:modified>
  <cp:revision>4</cp:revision>
  <dc:subject/>
  <dc:title>TYPES OF NAVIGATION CHARTS</dc:title>
</cp:coreProperties>
</file>