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C3B-323C-4633-8B0F-406F3361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427-97DB-4628-BE80-551F6A3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764-A8B7-4021-B6E7-EDF09D8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2B8-E6D8-4E9D-B941-06268F2E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DCC-6C32-4483-B7CE-7A7A6DE0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26E-A800-40D5-A2D4-5E486E76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6FC-5C4E-45BB-9CC1-3F2C9CB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62C-D5F9-49A4-B531-6B93C2F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6E3-9C02-44B1-8412-FF05B4DE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A0F-9263-4746-A2C9-E77F195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BEE-3B4B-4DBF-A335-7AD852C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EF1-1D91-4017-9CD4-2720D2C3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49A-F07C-493E-BD38-5EB140933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tart well in advance of the presentation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points with examples, comparisons, statistics and testimo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lear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94520" y="2514600"/>
            <a:ext cx="2544840" cy="31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ly consider the nature of the target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hearse the lesson to build conf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819160" cy="183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rather than complex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b-standard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 define each new technical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fic rather then gen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ntences of varying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24800" y="1676520"/>
          <a:ext cx="24192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4800" y="1676520"/>
                    <a:ext cx="24192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many ideas in a short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ing a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formation difficult to obtai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upplemented with other teaching devic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286000" cy="121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provide for traine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s pas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not get the most out of certain types of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to keep the attention of trainees for the whol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2286000" cy="124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7:31:26Z</dcterms:created>
  <dc:creator>DND</dc:creator>
  <dc:description/>
  <dc:language>en-US</dc:language>
  <cp:lastModifiedBy>Jamie Richards</cp:lastModifiedBy>
  <cp:lastPrinted>1999-02-11T18:09:34Z</cp:lastPrinted>
  <dcterms:modified xsi:type="dcterms:W3CDTF">1999-04-21T19:10:11Z</dcterms:modified>
  <cp:revision>6</cp:revision>
  <dc:subject/>
  <dc:title>PREPARING THE TEACHING LECTURE</dc:title>
</cp:coreProperties>
</file>