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1C3-3A19-4C7D-A16B-2BFEB713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034-0E31-4BEA-B2F4-E30E068F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F6E-3C3B-4AEA-B96E-7CC29B62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3BD-BB07-48F3-A1D2-416FDDB5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B14-FFFF-448B-A9CA-9A6C3182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2A6-49E7-414D-AEE7-B492A309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F41-6319-4535-992D-483D7FAC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5E6-CAC9-41E4-B62A-094EA4FF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D14-E92C-4983-86EA-848D0639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0F7-5375-4DE8-BA09-CA71435C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218-4DA3-4453-873B-293341E4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6A7-A87F-4B45-94A1-5448C50D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F45D-9898-4691-A7FF-3A091C546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ymbol6" descr=""/>
          <p:cNvPicPr/>
          <p:nvPr/>
        </p:nvPicPr>
        <p:blipFill>
          <a:blip r:embed="rId1"/>
          <a:srcRect l="37387" t="22865" r="31077" b="18521"/>
          <a:stretch/>
        </p:blipFill>
        <p:spPr>
          <a:xfrm>
            <a:off x="457200" y="4800600"/>
            <a:ext cx="465120" cy="838080"/>
          </a:xfrm>
          <a:prstGeom prst="rect">
            <a:avLst/>
          </a:prstGeom>
          <a:ln w="0">
            <a:noFill/>
          </a:ln>
        </p:spPr>
      </p:pic>
      <p:pic>
        <p:nvPicPr>
          <p:cNvPr id="45" name="symbols5" descr=""/>
          <p:cNvPicPr/>
          <p:nvPr/>
        </p:nvPicPr>
        <p:blipFill>
          <a:blip r:embed="rId2"/>
          <a:srcRect l="10393" t="0" r="72858" b="12051"/>
          <a:stretch/>
        </p:blipFill>
        <p:spPr>
          <a:xfrm>
            <a:off x="6477120" y="41148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symbols5" descr=""/>
          <p:cNvPicPr/>
          <p:nvPr/>
        </p:nvPicPr>
        <p:blipFill>
          <a:blip r:embed="rId3"/>
          <a:srcRect l="10393" t="0" r="72858" b="12051"/>
          <a:stretch/>
        </p:blipFill>
        <p:spPr>
          <a:xfrm>
            <a:off x="4114800" y="4114800"/>
            <a:ext cx="42552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symbols5" descr=""/>
          <p:cNvPicPr/>
          <p:nvPr/>
        </p:nvPicPr>
        <p:blipFill>
          <a:blip r:embed="rId4"/>
          <a:srcRect l="10393" t="0" r="72858" b="12051"/>
          <a:stretch/>
        </p:blipFill>
        <p:spPr>
          <a:xfrm>
            <a:off x="1905120" y="41148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48" name="symbols1" descr=""/>
          <p:cNvPicPr/>
          <p:nvPr/>
        </p:nvPicPr>
        <p:blipFill>
          <a:blip r:embed="rId5"/>
          <a:srcRect l="15273" t="0" r="71255" b="0"/>
          <a:stretch/>
        </p:blipFill>
        <p:spPr>
          <a:xfrm>
            <a:off x="7924680" y="4800600"/>
            <a:ext cx="460440" cy="762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5120" y="304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COMMANDERS FALL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14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4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1814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51814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51814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51814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51814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518148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1143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102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57200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600" y="3352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2438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095520" y="33526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2485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520" y="33526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5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657600" y="335268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09520" y="32004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914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95320" y="11430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723920" y="990720"/>
            <a:ext cx="1800" cy="30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66720" y="13716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914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29000" y="11430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657600" y="990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60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200400" y="1371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914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562720" y="11430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91320" y="990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334120" y="1371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13716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19720" y="1371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486400" y="1371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019560" y="1143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00:09:52Z</dcterms:created>
  <dc:creator>DND</dc:creator>
  <dc:description/>
  <dc:language>en-US</dc:language>
  <cp:lastModifiedBy>DND</cp:lastModifiedBy>
  <cp:lastPrinted>1999-03-23T18:25:20Z</cp:lastPrinted>
  <dcterms:modified xsi:type="dcterms:W3CDTF">1999-03-25T18:03:56Z</dcterms:modified>
  <cp:revision>10</cp:revision>
  <dc:subject/>
  <dc:title>No Slide Title</dc:title>
</cp:coreProperties>
</file>