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C21F-6F0B-4B41-BACD-36E0302BC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0D01-8611-4055-B8B5-0ED4CC810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8A49-A3B9-4CA1-8EEB-2A411019D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EAB4-D4D3-4349-8B81-64A40AC76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E6D4-EA8E-48AA-8176-2EA9CC725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A9B9-25DE-495E-A6CB-8CA2E10E8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A727-2144-4394-A070-030695C1F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5C70-8069-4DD4-9DB6-1584C7EE7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1F92-A700-496A-A8E1-794ABE7E2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4C35-63FD-41F0-9AAE-A72BB6CB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D809-DABB-4E71-B3AB-71FC0ED6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712B-70A1-4425-881A-10172E8D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B49FA-182D-433F-8134-79A1AC25AA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6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6.png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6.png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6.png"/><Relationship Id="rId20" Type="http://schemas.openxmlformats.org/officeDocument/2006/relationships/image" Target="../media/image7.png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irdgeIV" descr=""/>
          <p:cNvPicPr/>
          <p:nvPr/>
        </p:nvPicPr>
        <p:blipFill>
          <a:blip r:embed="rId1"/>
          <a:stretch/>
        </p:blipFill>
        <p:spPr>
          <a:xfrm>
            <a:off x="222120" y="533520"/>
            <a:ext cx="8921880" cy="60166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BIVOUAC S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17880" y="1752480"/>
            <a:ext cx="23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ASHING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26668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RINKING WATER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388620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01640" y="5791320"/>
            <a:ext cx="127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RE P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91640" y="495288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RE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45200" y="4800600"/>
            <a:ext cx="163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SS 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11680" y="426708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P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45560" y="3352680"/>
            <a:ext cx="10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545600" y="2971800"/>
            <a:ext cx="134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TR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468920" y="4038480"/>
            <a:ext cx="135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FET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EHI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154720" y="548640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725000" y="6019920"/>
            <a:ext cx="14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-1440" y="660888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9.01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05200" y="660888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04840" y="6608880"/>
            <a:ext cx="621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 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1440" y="660888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9.01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des%20picturres" descr=""/>
          <p:cNvPicPr/>
          <p:nvPr/>
        </p:nvPicPr>
        <p:blipFill>
          <a:blip r:embed="rId1"/>
          <a:stretch/>
        </p:blipFill>
        <p:spPr>
          <a:xfrm>
            <a:off x="2057400" y="1447920"/>
            <a:ext cx="541008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ho%20me%202" descr=""/>
          <p:cNvPicPr/>
          <p:nvPr/>
        </p:nvPicPr>
        <p:blipFill>
          <a:blip r:embed="rId1"/>
          <a:stretch/>
        </p:blipFill>
        <p:spPr>
          <a:xfrm>
            <a:off x="201600" y="566640"/>
            <a:ext cx="8740800" cy="57247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304840" y="6608880"/>
            <a:ext cx="621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 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-1440" y="660888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9.01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62320" y="4876920"/>
          <a:ext cx="761760" cy="46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4876920"/>
                    <a:ext cx="76176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7086600" y="2209680"/>
          <a:ext cx="719280" cy="31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086600" y="2209680"/>
                    <a:ext cx="71928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609480" y="762120"/>
          <a:ext cx="762120" cy="1295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9480" y="762120"/>
                    <a:ext cx="76212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048120" y="5410080"/>
          <a:ext cx="1562040" cy="10670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048120" y="5410080"/>
                    <a:ext cx="156204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7010280" y="4876920"/>
          <a:ext cx="914400" cy="1143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010280" y="4876920"/>
                    <a:ext cx="9144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848720" y="4724280"/>
          <a:ext cx="838080" cy="16002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848720" y="4724280"/>
                    <a:ext cx="83808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7543800" y="609480"/>
          <a:ext cx="838080" cy="11430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543800" y="609480"/>
                    <a:ext cx="8380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2514600" y="2362320"/>
          <a:ext cx="762120" cy="15238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514600" y="2362320"/>
                    <a:ext cx="76212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2895480" y="2590920"/>
          <a:ext cx="1219320" cy="11300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2895480" y="2590920"/>
                    <a:ext cx="1219320" cy="113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4" name="bridge567" descr=""/>
          <p:cNvPicPr/>
          <p:nvPr/>
        </p:nvPicPr>
        <p:blipFill>
          <a:blip r:embed="rId20"/>
          <a:stretch/>
        </p:blipFill>
        <p:spPr>
          <a:xfrm>
            <a:off x="196920" y="366840"/>
            <a:ext cx="8750160" cy="61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2T18:40:10Z</dcterms:created>
  <dc:creator>DND</dc:creator>
  <dc:description/>
  <dc:language>en-US</dc:language>
  <cp:lastModifiedBy>Jamie Richards</cp:lastModifiedBy>
  <cp:lastPrinted>1999-01-26T19:45:31Z</cp:lastPrinted>
  <dcterms:modified xsi:type="dcterms:W3CDTF">1999-04-01T18:41:59Z</dcterms:modified>
  <cp:revision>14</cp:revision>
  <dc:subject/>
  <dc:title>BIVOUAC SITE</dc:title>
</cp:coreProperties>
</file>