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D79-E9B4-4167-AF92-E54FD83F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8CC-327F-4C3E-A0A9-6B961BC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C92-051F-41F1-8310-92E95513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C6B-0C5D-4B7C-AE57-BE82016E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55B-B47E-4D43-9BA0-D8BF9AE1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5C3-73C1-4809-B3B3-28FDF57B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DAC-DBED-413B-8C12-46DFDD87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F78-CAF9-4138-AB8D-079AF63E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BF5-BED3-4F4A-90AB-DB88F9B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2DA-4432-47B8-88E3-861C4A7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624-E9DC-4822-A4EC-0A498DED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DD4-9FC9-4546-9FDE-95B6162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7A1D-D75C-40D4-8D7F-F1DAC358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662940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e the work of your subordinat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de on a meeting point from where you can coordinate the efforts of your sta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distance in order to keep an eye on the ensem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your assista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vailable to help solve any problems that may ari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 to modify the plan (Plan B) if circumstances change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 initiative and adapt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520"/>
            <a:ext cx="63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55240"/>
            <a:ext cx="6172200" cy="70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POST-ACTIVIT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your assistant(s) to provide you with a post-activity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ost-activity report, verbal or written, answers the following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as the nature of my tas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problems did I encoun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olutions did I app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course of action could help improve the situation in the fu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weak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strong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my personal opinion on the overall success of the activ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15573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98400"/>
            <a:ext cx="61722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the opinions of your subordina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 neutral and listen to your staff. Do not take their remarks personal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s should be in a climate of trust and honest exchan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problem brought to the table, a constructive solution must be offered by you or, better yet, by the whole group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5257800"/>
            <a:ext cx="35812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UBMITTING A FINAL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045880"/>
            <a:ext cx="647712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analyzing the shortfalls and strong points from your assistant’s post-activity report, you must produce a Final Report (After Action Report) for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itten report must, in addition to answering the questions in the post-activity report, is to include a precise evaluation of each element of your origin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port must be detailed and include proper and precise recommend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5:47:13Z</cp:lastPrinted>
  <dcterms:modified xsi:type="dcterms:W3CDTF">1999-03-15T15:47:16Z</dcterms:modified>
  <cp:revision>43</cp:revision>
  <dc:subject/>
  <dc:title>No Slide Title</dc:title>
</cp:coreProperties>
</file>