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434-E46C-4B72-9BCF-53C89C2B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4C6-8C65-427D-82FD-9194CB9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D5F-C81D-44D8-8966-1D164A0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38A-9015-4531-A82E-47D4844F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6A6-C959-47C2-9341-0695189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4CE-2713-4CAA-B859-273D66E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9FE-C5CA-4DFE-BF3C-D0F5346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002-8D51-4611-89EF-1EFE6AE9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EE4-3991-4906-B36C-552B1C61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7B8-B1DE-43F0-84C8-4C15E80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7C4-6141-4F3C-8DFF-81495413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D6F-3703-472E-9C0A-0F4B742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B57-471B-4A31-89F4-EB65493F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86400" y="3200400"/>
          <a:ext cx="317808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200400"/>
                    <a:ext cx="31780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te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 of 5,2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tical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,080 feet) is the average length of one minute of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ome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,000 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9120" y="3733920"/>
            <a:ext cx="38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peed of one nautical mile per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statute mile per h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kilometer per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autical mil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 statute miles it i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bbreviation for kilometer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 kno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15200" y="2209680"/>
          <a:ext cx="1219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467480" y="2286000"/>
            <a:ext cx="8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3443400"/>
          <a:ext cx="58672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43400"/>
                    <a:ext cx="58672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“ONE-IN-SIXTY”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in the track of one degree will cause an error in position of about one mile in a distance of 60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080" y="5029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67160" y="50292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the correct term into the blank space found in each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2193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5,280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9051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6,080 feet) is the average length of one minute of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5909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1,000 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276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peed of one nautical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statue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63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kilometer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9080" y="268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21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e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87760" y="5181480"/>
            <a:ext cx="19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tical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14640" y="521352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09040" y="5181480"/>
            <a:ext cx="11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4:53:50Z</dcterms:created>
  <dc:creator>DND</dc:creator>
  <dc:description/>
  <dc:language>en-US</dc:language>
  <cp:lastModifiedBy>Jamie Richards</cp:lastModifiedBy>
  <cp:lastPrinted>1999-03-17T15:42:24Z</cp:lastPrinted>
  <dcterms:modified xsi:type="dcterms:W3CDTF">1999-03-31T04:02:06Z</dcterms:modified>
  <cp:revision>4</cp:revision>
  <dc:subject/>
  <dc:title>UNITS OF DISTANCE AND SPEED</dc:title>
</cp:coreProperties>
</file>