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1208-3AC7-4CD3-ADB2-4DF9EF0D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567-9919-469C-B4C8-6229CEDC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718-AD0C-468E-9FCF-8728E602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9FCE-4F45-4998-9106-79E2C2BD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E37-CF80-46B8-9CD8-2CBB745C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8DA-0344-482C-BBB3-81D06EA6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B13-D107-475F-9E14-B3AF5A3D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6BE-E063-46D3-B338-D28D4E2E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5E5-9297-4C37-9F3C-82A2030D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7B7E-6501-429A-BFAC-5F122BE2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B65-0DEE-48AD-A6FB-125611AF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E04-E0EF-4826-9878-28787A22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815D-56EA-4A5C-B9ED-C114EB2C4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886200" y="914400"/>
          <a:ext cx="8231040" cy="94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914400"/>
                    <a:ext cx="823104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371600" y="1905120"/>
          <a:ext cx="6858000" cy="4551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905120"/>
                    <a:ext cx="6858000" cy="45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33520" y="2438280"/>
            <a:ext cx="1685880" cy="108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429000" y="2819520"/>
            <a:ext cx="150012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1523880" y="4114800"/>
            <a:ext cx="1447920" cy="1444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886200" y="4419720"/>
            <a:ext cx="1743120" cy="1752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09480" y="5715000"/>
            <a:ext cx="1567080" cy="1154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2971800" y="6477120"/>
            <a:ext cx="128736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5T23:30:04Z</dcterms:modified>
  <cp:revision>24</cp:revision>
  <dc:subject/>
  <dc:title>No Slide Title</dc:title>
</cp:coreProperties>
</file>