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E4D8-FD8E-46D1-9C49-E75495A57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0FB4-0676-406E-B6F4-5393E47C0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79C8-278C-41DD-97B4-B5B4D33E1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43EC-7916-4D51-B4D3-380F205DD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8F37-382F-402A-A346-1ADEBD52E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B527-DE5E-4AFA-AA28-132CE5DB0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5EC3-1E0B-484E-B99F-D7467BD86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96BF-15A6-4AEB-A7DA-93A6F7EA1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4E21-FC4B-40DA-B4D1-B0E2F07DF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956B-0C15-4E53-9853-5BE3AE09C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DAB1-0990-47E1-BF6F-87ACB7367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4372-E072-4B38-AE0B-23D8A108E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C00AA-578D-4DFC-9568-EEF34F6AB7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228600"/>
          <a:ext cx="876312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876312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304920" y="1981080"/>
            <a:ext cx="236196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ritannic Bold"/>
              </a:rPr>
              <a:t>EATING WE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00400" y="2743200"/>
            <a:ext cx="27432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ritannic Bold"/>
              </a:rPr>
              <a:t>BEING AC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943600" y="2438280"/>
            <a:ext cx="320040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ritannic Bold"/>
              </a:rPr>
              <a:t>FEELING   GOOD ABOUT YOURSEL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280" y="3352680"/>
            <a:ext cx="2959200" cy="3187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4114800"/>
            <a:ext cx="2806920" cy="242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58000" y="5029200"/>
            <a:ext cx="3186000" cy="151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57200" y="3657600"/>
          <a:ext cx="2362320" cy="257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657600"/>
                    <a:ext cx="2362320" cy="25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276720" y="4114800"/>
          <a:ext cx="2514600" cy="220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76720" y="4114800"/>
                    <a:ext cx="251460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6705720" y="4952880"/>
          <a:ext cx="1676160" cy="1447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05720" y="4952880"/>
                    <a:ext cx="167616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671480" y="228600"/>
          <a:ext cx="6086520" cy="2057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71480" y="228600"/>
                    <a:ext cx="608652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63000" y="6545160"/>
            <a:ext cx="1521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06.01a Level F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724280" y="6583320"/>
            <a:ext cx="4267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ndout #1 - Maintaining a Safe and Healthy Lifesty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3-12T14:57:40Z</cp:lastPrinted>
  <dcterms:modified xsi:type="dcterms:W3CDTF">1999-03-12T14:57:43Z</dcterms:modified>
  <cp:revision>22</cp:revision>
  <dc:subject/>
  <dc:title>No Slide Title</dc:title>
</cp:coreProperties>
</file>