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40FB-3C22-486F-94AE-24392E3A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F34-7925-4D04-88AD-288B68EB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4DF-5C30-4E46-9A35-5A688A94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337-B0EF-4472-9E01-31DC34CE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513-E55B-45EB-AA6A-4101B512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144-BBCF-458C-8A9D-FF6DC951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67FE-5C9B-40C0-8878-1BE6F1F6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10D-5BCA-49BA-99E7-7D45C43B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33B-9B51-4FB7-93E4-41B2E9A3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870B-A819-4F2B-8DC4-61C0298B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DA6-9B05-4DEE-A8AA-C116DE66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47E1-27C5-413A-8191-F69D1F1A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ED39-6721-4599-81BC-F439B0AED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ELECTION OF A BIVOUAC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Drained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 Surroun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ence of Dangerous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19600" y="2133720"/>
            <a:ext cx="5324400" cy="4267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9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5T13:27:06Z</dcterms:created>
  <dc:creator>DND</dc:creator>
  <dc:description/>
  <dc:language>en-US</dc:language>
  <cp:lastModifiedBy>Jamie Richards</cp:lastModifiedBy>
  <cp:lastPrinted>1999-01-25T14:08:08Z</cp:lastPrinted>
  <dcterms:modified xsi:type="dcterms:W3CDTF">1999-04-01T18:42:30Z</dcterms:modified>
  <cp:revision>5</cp:revision>
  <dc:subject/>
  <dc:title>SELECTION OF A BIVOUAC SITE</dc:title>
</cp:coreProperties>
</file>