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F89-8765-4357-A720-BDC00013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AEE-BF5F-4A85-B713-23516358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800-60D9-41FD-BBEC-A2F2AFB0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F08-D86E-468F-8D3C-64617890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B7B-87E8-4798-A4F0-CEF30091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9CE-DD87-4F03-ABCB-6A758753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678-5755-48CE-A397-D366C341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68C-29CA-4C31-AB16-648BDD1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0DC-3CB3-4784-B0F9-07616D3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CAF-80E6-4790-9717-E8FBBC70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B81-DD5F-4952-9A4A-A418856C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A36-50EA-4A54-8AFE-D605B94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28B6-E026-4A5C-B114-4497F4DF2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loud Fami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loud%20chart" descr=""/>
          <p:cNvPicPr/>
          <p:nvPr/>
        </p:nvPicPr>
        <p:blipFill>
          <a:blip r:embed="rId1"/>
          <a:srcRect l="2886" t="0" r="2868" b="0"/>
          <a:stretch/>
        </p:blipFill>
        <p:spPr>
          <a:xfrm>
            <a:off x="0" y="1925640"/>
            <a:ext cx="9144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he correct cloud types for each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67040" y="2786040"/>
            <a:ext cx="4310280" cy="344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6164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43520" y="5408640"/>
            <a:ext cx="12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160" y="5408640"/>
            <a:ext cx="26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cumulus Castell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ering 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 Fra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8200" y="5408640"/>
            <a:ext cx="173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 Fra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120" y="54086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971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657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0666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09T14:35:04Z</cp:lastPrinted>
  <dcterms:modified xsi:type="dcterms:W3CDTF">1999-03-31T03:53:47Z</dcterms:modified>
  <cp:revision>6</cp:revision>
  <dc:subject/>
  <dc:title>Cloud Families</dc:title>
</cp:coreProperties>
</file>