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758A-4361-4619-AAF4-F6F6DC65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0E3-C462-47B0-BEC4-5A836CDE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8D4-BDE0-4761-A2AD-C60CD8A3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5FA-0A59-4992-8EE3-FAD4F72A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342-E7EC-4040-A87B-F618E365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74EA-887C-42FA-BBA2-11C94ADD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786B-7234-4630-9A38-3BCDA5D8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0148-7ABF-4A9E-A095-59BB6C1C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3E3-9F49-4D0B-9488-D75D2914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0632-088D-4434-9667-BB2759D8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7703-CAC3-4FED-B13E-A0FEEAF8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D93-E483-4880-A716-B8E0EEEC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A47B-4CF9-468E-BC19-C28EFD94C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lative Size of Water Drop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560" y="6551640"/>
            <a:ext cx="11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rain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305920" cy="3786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5410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UD DROP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5410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ZZLE DR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5410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INDR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 u="sng">
                <a:solidFill>
                  <a:srgbClr val="000000"/>
                </a:solidFill>
                <a:uFillTx/>
                <a:latin typeface="Arial"/>
              </a:rPr>
              <a:t>Forms of Precipitatio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520" y="13716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izz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now-Pell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e Pr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e Pell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60" y="6551640"/>
            <a:ext cx="11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e Pri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zz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-Pell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e Pell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cipitation in the form of very small drops of water which appear to flo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are tiny ice crystals in the form of need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form of precipitation occurs when raindrops freeze. They are hard, transparent, globular grains of ice about the size of raindro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 smaller cloud, a hailstone usually remains small, does not have a hard covering and usually arrives at the ground as a soft, white ice pell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visible water vapor in the air sublimates directly into ice crystals, without passing through any intermediate water stor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cipitation in the form of large water droplet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form of precipitation forms in a cloud when water droplets freeze onto ice crystal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the form of precipitation with its description by placing the correct letter in the appropriate blan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640" y="13683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1676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040" y="6545160"/>
            <a:ext cx="120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43040" y="1905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343040" y="2438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34304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34304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34304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34304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343040" y="6019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8:37:42Z</dcterms:created>
  <dc:creator>RC Air Cadets</dc:creator>
  <dc:description/>
  <dc:language>en-US</dc:language>
  <cp:lastModifiedBy>Jamie Richards</cp:lastModifiedBy>
  <cp:lastPrinted>1999-03-17T19:04:14Z</cp:lastPrinted>
  <dcterms:modified xsi:type="dcterms:W3CDTF">1999-03-31T03:47:30Z</dcterms:modified>
  <cp:revision>8</cp:revision>
  <dc:subject/>
  <dc:title>Cloud Families</dc:title>
</cp:coreProperties>
</file>