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EBD-71C9-4942-BECF-F246C220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A103-B45C-43F9-A31F-7D49951C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02F-411A-46FF-9D53-07B7230D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5C93-7EFC-4AAA-8FDB-7E0B454A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AC7-863F-49B7-ADC1-E28C0D29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8EF-5048-4CD8-9C6A-93D9F663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742-642E-4E43-B986-282933D5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176-82B9-4156-80A2-91162A9B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0FD-3313-4E00-A732-615237BA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F4CD-171D-4445-B957-921A5675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1B2-55BB-4C59-A8EC-3F9E2381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02EC-2814-46FA-B8CA-B55832B1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DB91-F56E-4CD7-B0E5-6BF352449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438280"/>
            <a:ext cx="6096240" cy="77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ake a shower or ba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every other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ash dirty clothes once a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rim finger and toe nail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regular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40" y="872640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438280"/>
            <a:ext cx="609624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Use foot powder after ea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rush and floss your tee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after each me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Shave if requ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40" y="872640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0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fg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4008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5T18:06:34Z</cp:lastPrinted>
  <dcterms:modified xsi:type="dcterms:W3CDTF">1999-03-12T14:58:25Z</dcterms:modified>
  <cp:revision>11</cp:revision>
  <dc:subject/>
  <dc:title>No Slide Title</dc:title>
</cp:coreProperties>
</file>