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2C2-6C46-465C-AFCC-34751E9E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25C-662F-4462-B0D1-4728212E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023-9AB8-4BB4-829F-C345B3AE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9CF-A8C3-4A09-BAF4-BD8E7942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0B5-C9DE-4703-BE73-2F7CB369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103-964F-41A0-93AF-DA2D986F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9E1-63DD-4310-8784-2DF74B94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4EA-CE6B-4C4A-80A1-55473031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38D-457C-4E08-801E-613EBBDA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45E-8199-4DCB-AA0B-F24D7C0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D93-3712-4081-A2FC-2262B023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F87-5751-42C4-8D83-BF3BE49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8E97-3CD6-4DF4-89B3-391870056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-PERFORMANCE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971800" cy="192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3276720"/>
            <a:ext cx="198144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14:28:12Z</dcterms:created>
  <dc:creator>DND</dc:creator>
  <dc:description/>
  <dc:language>en-US</dc:language>
  <cp:lastModifiedBy>Jamie Richards</cp:lastModifiedBy>
  <cp:lastPrinted>1999-02-12T14:33:58Z</cp:lastPrinted>
  <dcterms:modified xsi:type="dcterms:W3CDTF">1999-04-21T19:11:40Z</dcterms:modified>
  <cp:revision>3</cp:revision>
  <dc:subject/>
  <dc:title>DEMONSTRATION-PERFORMANCE METHOD</dc:title>
</cp:coreProperties>
</file>