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A24-7835-43AE-8CFD-7DFDA6C1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E6B-A6F8-411F-97B6-87028BAB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C66-E2F1-4D5B-AE53-7154E3FD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DE8-081A-4C6F-95AC-F2AFCE9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C25-D18B-4A8B-9B83-93A3B371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7E3-EC4E-4ADB-8BC4-C1441863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1EA-2B5D-4F2B-B3B5-27220D6A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EED-6ED0-4026-B3E7-03426AF5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987-52CD-48C0-974A-C1617DF0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035-4C22-4704-940D-5FAD5E1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1FF-882D-48B0-9F12-24D9DE6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AE0-7FB7-464F-A73F-F2BDB2E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5E7-BC5C-4236-BDD0-A8988179A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3T18:53:39Z</dcterms:modified>
  <cp:revision>2</cp:revision>
  <dc:subject/>
  <dc:title>No Slide Title</dc:title>
</cp:coreProperties>
</file>