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0BB-0C3F-488A-9EF3-94DF5E16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37A-3604-4B41-B2B6-4AAD471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72A-0FEA-4D83-8C0B-B096DE04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FAF-E451-44F0-AECF-86AE1A76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A28-FF66-4A8E-99E3-90FAE89A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0CD-CF80-4D3B-9324-41CA2758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4F3-0E28-4F5B-86E2-95AEFD0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D42-11DE-4368-B832-8C5764C3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555-F2AD-44D4-BCE1-DE703FC0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66B-B994-426B-9515-A68022CC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F09-3EF2-47B4-A446-2183DDB3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B75-39B6-4536-B4CA-DCFF4DA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FF2E-ACD3-4AB3-A957-E5745B121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61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resumé is not a job application but is a chronological description of your education and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sum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well prepared and logically organized. In other words it must be easy to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impeccable in its presenta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cts it includes must be true and prec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64008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nd given na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ne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Insurance No. (optional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e of birth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atus (single, married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6477120"/>
            <a:ext cx="19540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828800"/>
            <a:ext cx="6629400" cy="66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ducation &amp; Work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your education in reverse chronological order, beginning with last diploma receiv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schools attended and currently attend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hort description of all jobs and positions held in the past, including any employment at a summer training cent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thing that you have done, even the smallest jobs should be inclu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6629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you spend your spare time? Are you involved in any sports, social activities or cultural pursu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re any awards that you have won in school, cadets or elsewhere. Do not hesitate to mention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134460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66880" y="754380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6400800"/>
            <a:ext cx="221004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6019920"/>
            <a:ext cx="15192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828800"/>
            <a:ext cx="662940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do not need to have references, but it will not hurt to have the support of two or three people who could attest to your qualifications and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eople should provide a letter of reference if needed, or at least be able to answer a few questions about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have the permission of these people before using them as 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24280" y="7696080"/>
            <a:ext cx="1600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RESENTATION OF YOUR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828800"/>
            <a:ext cx="662940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not be more than three pag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be easy to re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writing style should be dynamic and precise, and free of lengthy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ust be printed on 81/2 x 11 white or slightly coloured paper, on one side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r grammar is perfe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abbreviations or acronyms. Write the titles or positions in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5:21:31Z</cp:lastPrinted>
  <dcterms:modified xsi:type="dcterms:W3CDTF">1999-03-12T15:21:35Z</dcterms:modified>
  <cp:revision>28</cp:revision>
  <dc:subject/>
  <dc:title>No Slide Title</dc:title>
</cp:coreProperties>
</file>