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6A6-7364-41B3-8FB7-80CEEC08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41C-CDD9-40C6-8503-0F18452F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19C-AE63-4A9E-9926-E00264DF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624-2302-4887-B73E-8CA91084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2CF-5D85-4F37-96ED-1904C22E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36C-5563-4DDF-8ADA-CCEC18A9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931-8E58-4C40-82CC-FBADC79F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41B-31A8-4232-8C46-53C2C761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7B6-E9F0-4CAD-B1B1-1C85BB45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DCD-DA68-4B2E-80C1-80FCE453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8C5-DB6D-4ECC-AD44-5792FB10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4FC-73BB-48AC-974C-26A4214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C5B8-6A8D-45A7-9185-448807482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654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13T15:20:17Z</dcterms:modified>
  <cp:revision>6</cp:revision>
  <dc:subject/>
  <dc:title>No Slide Title</dc:title>
</cp:coreProperties>
</file>