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266F-75B6-451C-9FE3-AFE639ED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48FB-9C56-40B5-AE5E-EAF7482F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C5EA-AD16-4D88-9D88-37BA12F3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0BD7-6F78-483E-A5B8-AE645E8F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781C-678E-416B-A399-3D5815B9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8AF0-C94E-4006-AAE9-0845D789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AE46-7463-4C61-AD5B-527EAD47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1065-E6AF-4A60-87C4-2B568011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BC8B-67AE-46AA-8A53-B2204680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D210-27CE-42EE-B5B9-14FD2A6F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FAD-2707-43F1-A9CF-1263880E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E427-6DBA-41E4-BF61-70CA3B67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989C-2BA1-410E-9C85-2C2E58202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OBLEM TRAIN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LEA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 LEA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LENT CAD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L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869000" y="1981080"/>
            <a:ext cx="3368520" cy="4114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1024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164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OBLEM TRAIN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ULTF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-IT-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E-POLIS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ETRAC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59320" y="1981080"/>
            <a:ext cx="2386080" cy="4114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164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2032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5:18:14Z</dcterms:created>
  <dc:creator>DND</dc:creator>
  <dc:description/>
  <dc:language>en-US</dc:language>
  <cp:lastModifiedBy>Jamie Richards</cp:lastModifiedBy>
  <cp:lastPrinted>1999-02-10T15:26:51Z</cp:lastPrinted>
  <dcterms:modified xsi:type="dcterms:W3CDTF">1999-04-21T19:06:53Z</dcterms:modified>
  <cp:revision>5</cp:revision>
  <dc:subject/>
  <dc:title>PROBLEM TRAINEES</dc:title>
</cp:coreProperties>
</file>