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F91-5AD9-4D43-A313-398E0B71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824-9BB8-45BB-801D-7D534A8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6D1-E8C7-401D-9346-E500AC85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5A9-5B67-48E4-AA17-129C5028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805-1860-4DDE-BA1E-73ECD353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EB5-3499-49DF-AE60-A1BC6F45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6C2-E80F-4315-9FA8-3B4F25D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D54-C8CB-473B-AE6C-C304AE80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C18-6B7C-48F1-8998-9EA306AD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13A-94AC-42C4-B5F5-9FB051F7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6E5-C7BD-4589-ACBA-06B24D1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C19-B629-44EC-B6DA-7DC0A150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132D-0355-4B4C-B948-73FDB6C5F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TMOSPHERE IS HEATED FROM BEL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eating" descr=""/>
          <p:cNvPicPr/>
          <p:nvPr/>
        </p:nvPicPr>
        <p:blipFill>
          <a:blip r:embed="rId1"/>
          <a:srcRect l="0" t="0" r="1868" b="0"/>
          <a:stretch/>
        </p:blipFill>
        <p:spPr>
          <a:xfrm>
            <a:off x="152280" y="2270160"/>
            <a:ext cx="87631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ctors </a:t>
            </a:r>
            <a:r>
              <a:rPr b="1" lang="en-US" sz="4600" spc="-1" strike="noStrike" u="sng">
                <a:solidFill>
                  <a:srgbClr val="000000"/>
                </a:solidFill>
                <a:uFillTx/>
                <a:latin typeface="Arial"/>
              </a:rPr>
              <a:t>Affecting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urnal Vari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asonal Vari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17T19:06:32Z</cp:lastPrinted>
  <dcterms:modified xsi:type="dcterms:W3CDTF">1999-03-31T03:48:08Z</dcterms:modified>
  <cp:revision>11</cp:revision>
  <dc:subject/>
  <dc:title>Cloud Families</dc:title>
</cp:coreProperties>
</file>