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C618-D37C-431C-B31F-FA9A75C81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0709-29E1-4737-9ECA-12ECAF67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94F4-E614-4EC8-A8A9-CCF73BC9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C9BB-B946-48FF-9AF3-61A2AA4E0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8708-8800-4D16-AAFF-47AF93AA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A3F1-0073-4AFB-AD31-E8DCFDB5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C222-6477-48B2-A6AF-DB89E305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39CF-AE0F-4F61-8B53-769B11A2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D175-FCF3-4E84-B0BC-61EDF617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DDE2-9837-4810-B6EF-C21CCFE1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E36A-2CC3-4EB7-A04E-968B2A12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CF38-C1B7-4B97-8512-7024354C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7020-E0F3-42D8-84EE-B34B2B814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 u="sng">
                <a:solidFill>
                  <a:srgbClr val="000000"/>
                </a:solidFill>
                <a:uFillTx/>
                <a:latin typeface="Arial"/>
              </a:rPr>
              <a:t>Cloud Formation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, in which water vapour is present, is cooled to its saturation point and condensation occur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, without a change in temperature taking place, may absorb additional water vapour until its saturation point is reach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ypes of Cloud Form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mulus clou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m vertically into clumps.  They form in rising air currents and are evidence of unstable air condi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us clou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m in horizontal layers.  They usually form when a layer of moist air is cooled below its saturation po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1T13:05:41Z</dcterms:created>
  <dc:creator>RC Air Cadets</dc:creator>
  <dc:description/>
  <dc:language>en-US</dc:language>
  <cp:lastModifiedBy>Jamie Richards</cp:lastModifiedBy>
  <cp:lastPrinted>1999-03-19T19:32:44Z</cp:lastPrinted>
  <dcterms:modified xsi:type="dcterms:W3CDTF">1999-03-31T03:53:19Z</dcterms:modified>
  <cp:revision>9</cp:revision>
  <dc:subject/>
  <dc:title>PITCH</dc:title>
</cp:coreProperties>
</file>