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BBD-AF8F-4F39-AA33-1E3FAD4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958-BFF6-44E8-9156-7995B21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D92-4793-450A-84B8-C05B37F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698-9061-4C54-9346-EF57ACF7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950-8052-4267-A89F-1482D41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51-89D4-45AB-BACB-EC41FFE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BD0-8265-4004-9034-4EAD548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1F9-6714-49B3-9BA0-07478DF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CC-2DD4-4B39-BE04-3CAEA76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8F4-5329-440F-B8AD-C7087A7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9E6-AA5B-4039-9A23-DC9689A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137-CEC8-47BF-992D-7A0731B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6D0-751A-478E-93A4-2ACF8E784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interviewing is to guide, aid or understanding another person, usually in face-to-face personal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view is influenced by the personalities of the interviewer and the person being intervie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638680"/>
            <a:ext cx="5823000" cy="28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VIEW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388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ing new cadets to your un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iodically inform cadets of their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ssign task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det leaves the squad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3049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INTERVIE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5181480"/>
            <a:ext cx="74916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15000"/>
            <a:ext cx="2506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5943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counselling is to discuss with a subordinate the subordinate’s problems with the intent of arriving at a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6738840"/>
            <a:ext cx="3581280" cy="175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73392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COUNS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952880"/>
            <a:ext cx="5943600" cy="22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rrect a prob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a problem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3:34:07Z</cp:lastPrinted>
  <dcterms:modified xsi:type="dcterms:W3CDTF">1999-03-15T13:34:08Z</dcterms:modified>
  <cp:revision>32</cp:revision>
  <dc:subject/>
  <dc:title>No Slide Title</dc:title>
</cp:coreProperties>
</file>