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202-4667-4389-9D24-7247727B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C5F-6C4E-4504-A41E-C658576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052-087F-4C32-B6DF-24A2935F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DEE-5C70-4C42-AD0F-4C847FAF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5CC-B376-4B38-A337-75EE82E1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E86-EF58-4DCA-874D-7D208F13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CDF-084D-4FF4-9983-C181DB93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55D-3076-4B04-B494-9559C3C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F73-AF6B-46DD-94BA-C834826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4E3-BAAE-496C-A901-3E297B3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E76-2979-49E8-B30A-81234B2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4FB-791F-4059-A92C-3AE3359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82A-4844-4589-ABDF-11DD21EF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meeting to order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 the order of business as detailed i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the business and conduct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200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time allotted to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debate to the question unde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secure a hearing for those entitled to s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3886200"/>
            <a:ext cx="8809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fair, just and impar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lecturing, being domineering and offering personal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meeting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898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10080" y="4419720"/>
            <a:ext cx="1606680" cy="19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315200" y="5029200"/>
            <a:ext cx="1330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8:03:12Z</dcterms:created>
  <dc:creator>DND</dc:creator>
  <dc:description/>
  <dc:language>en-US</dc:language>
  <cp:lastModifiedBy>Jamie Richards</cp:lastModifiedBy>
  <dcterms:modified xsi:type="dcterms:W3CDTF">1999-04-26T03:10:43Z</dcterms:modified>
  <cp:revision>6</cp:revision>
  <dc:subject/>
  <dc:title>CONDUCTING A MEETING</dc:title>
</cp:coreProperties>
</file>