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B56-4935-475D-AE69-BDEEC0A8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1EB-9EC2-4DE7-BA8E-560C652D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BD5-38B3-4D9A-A5F5-FEC1EE7B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F01-153F-4D6E-8FB7-FDA31F6E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110-25E5-44AA-8A88-4AEE480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8D8-354B-4342-93BD-4E77B549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700-B15E-4A7E-9B41-0CCF2B5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91F-95AD-4766-AA51-0328C908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E3F-C6A9-4019-8C0E-AC79064D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5A9-896B-45DB-82C6-12F07C53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0AE-30C7-45C4-AD2A-9F3D4CDB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D45-496A-4EDE-9D37-A388826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960-2752-48DA-9168-120FDBA6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visions of 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tmosphere" descr=""/>
          <p:cNvPicPr/>
          <p:nvPr/>
        </p:nvPicPr>
        <p:blipFill>
          <a:blip r:embed="rId1"/>
          <a:srcRect l="7761" t="2184" r="8846" b="2835"/>
          <a:stretch/>
        </p:blipFill>
        <p:spPr>
          <a:xfrm>
            <a:off x="1700280" y="1074600"/>
            <a:ext cx="5538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 in each of the spaces with the correct name for that level of the atmosp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551560" cy="541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362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2971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3505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1600" y="990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29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1752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32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292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292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328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87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84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40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6500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03:22Z</cp:lastPrinted>
  <dcterms:modified xsi:type="dcterms:W3CDTF">1999-03-31T03:53:00Z</dcterms:modified>
  <cp:revision>8</cp:revision>
  <dc:subject/>
  <dc:title>Cloud Families</dc:title>
</cp:coreProperties>
</file>