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B98-CEE7-4CB9-B5AB-0EB64629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B80-7C1C-4C95-A6F9-2025E7FD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109-E99F-4FFF-A6F1-30E1FA5D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66E-EB0F-47A8-BC9C-BEE365AF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6F1-1316-4C33-A3E3-46F00262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889-2A04-40A1-AFF9-CFEF96E2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46B-D676-4F1C-9260-77620730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491-AD7E-42E1-8F4D-105CF47E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BC1-71E7-4D44-939D-4E5598D4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0E9-A991-4E4D-94E5-61EB2750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1FD-E988-4764-A122-9279436D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048-700D-48B5-84C2-E09947C8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E65F-70FC-4A52-B530-CB8293F11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tmospheric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tmosphere is made up of a mixture of invisible gases.  The main gases in the atmosphere a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itro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rbon dioxi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ddition to these gases, the lower layers of the atmosphere contain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ter vapou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From a weather standpoint, this water vapour is the most important constituent of the atmosphe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perties of the Atmosphe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ACITY FOR 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ACITY FOR COMPR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 the letter which corresponds to the answer of each of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y the three main gases that are present in the atmosp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 Mon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of the following are the three principal properties of the atmosp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co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Expa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ui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Com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Combu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680" y="1486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752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93880" y="5295960"/>
            <a:ext cx="53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he word which best fits the following sente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5560" y="5624640"/>
            <a:ext cx="722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ause the atmosphere h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exerts a pressure on the Earth’s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50800" y="6019920"/>
            <a:ext cx="63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 the letter which corresponds to the answer of each of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y the three main gases that are present in the atmosp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 Mon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of the following are the three principal properties of the atmosp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co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Expa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ui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Com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Combu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0680" y="1486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752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93880" y="5295960"/>
            <a:ext cx="53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he word which best fits the following sente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25560" y="5624640"/>
            <a:ext cx="722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ause the atmosphere h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exerts a pressure on the Earth’s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50800" y="6019920"/>
            <a:ext cx="63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195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114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4800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44956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35053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28195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4120" y="556272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6019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3:05:41Z</dcterms:created>
  <dc:creator>RC Air Cadets</dc:creator>
  <dc:description/>
  <dc:language>en-US</dc:language>
  <cp:lastModifiedBy>Jamie Richards</cp:lastModifiedBy>
  <cp:lastPrinted>1999-03-01T13:13:26Z</cp:lastPrinted>
  <dcterms:modified xsi:type="dcterms:W3CDTF">1999-03-31T03:52:19Z</dcterms:modified>
  <cp:revision>7</cp:revision>
  <dc:subject/>
  <dc:title>PITCH</dc:title>
</cp:coreProperties>
</file>