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09ED-5EC9-412A-A5E8-FAE189556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7AB4-FCA2-420C-86AB-627BAC88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95DD-B2A4-41AF-9B60-EA3EF77EE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5E42-7B39-4FB5-8E95-B902B843D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A263-E34B-474A-960F-4B942B64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3EB2-084D-4EFA-BC4A-A2F3EF95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A954-434F-483B-9190-10D6A036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D98B-55C2-4D8D-AE46-C8C0D587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14A5-2842-4411-AFC0-AB0FEC0B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84BA-8D99-4942-A599-2BE4FA57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E21E-EE47-493A-91C8-0A288D43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31E1-2D8D-48F2-BC4B-D05BF3E6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0757-469D-4F49-B390-E5BA8E322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320" y="8763120"/>
            <a:ext cx="1297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447920"/>
            <a:ext cx="6400800" cy="78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bjectiv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counselling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improve the morale of cadet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increase efficienc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increase loyalty;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improve acceptance of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ollowing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functio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at assist in meeting these ai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ss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motional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rified thin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80880" y="304920"/>
            <a:ext cx="609624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BJECTIVES OF COUNSELLING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320" y="8763120"/>
            <a:ext cx="1297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1371600"/>
            <a:ext cx="6400800" cy="69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blish the purpose of the session in advan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pare the plan beforeha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unsel in private space, free of disruption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pect the interests and individuality of each cade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lp the cadet feel at ease by establishing tru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ep the conversation going, but do not domin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 questions that may be answered by a yes or 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 “why” questions as they force a defensive sta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4920" y="304920"/>
            <a:ext cx="624816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UGGESTED COUNSELLING RULES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4320" y="8763120"/>
            <a:ext cx="1297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1447920"/>
            <a:ext cx="6400800" cy="72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ep your views and opinions to yoursel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frain from giving unsolicited advi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frain from passing value judgement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 exerting excessive contr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not become sidetracked for lengthy period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d the session positivel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ord information, impressions and interpretation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ep the matter confident;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llow up unobtrusiv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4920" y="304920"/>
            <a:ext cx="624816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UGGESTED COUNSELLING RULES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800600" y="7112160"/>
            <a:ext cx="1828800" cy="15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4320" y="8763120"/>
            <a:ext cx="1297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447920"/>
            <a:ext cx="5943600" cy="31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ea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r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i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ce Val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90720" y="304920"/>
            <a:ext cx="480060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MMON ERROR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438280" y="5029200"/>
            <a:ext cx="2143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15T14:09:37Z</cp:lastPrinted>
  <dcterms:modified xsi:type="dcterms:W3CDTF">1999-03-15T14:09:51Z</dcterms:modified>
  <cp:revision>33</cp:revision>
  <dc:subject/>
  <dc:title>No Slide Title</dc:title>
</cp:coreProperties>
</file>