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0788-29C6-403D-A12D-D6B03DE9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5245-8FD9-4012-AA38-58C21330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BE2-4302-49D0-A7D0-E0610993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452D-B9F8-47AB-A0AB-6C346FAD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8BEC-7E61-44C3-B9C1-2BC434D6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2D8A-78C6-41B3-B390-04887359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A1B-02FD-4A7A-8B39-9A09C6C2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B03B-41DD-4E8B-8EAD-337A6322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7154-6098-4B09-91DD-86C16F7D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2E56-DBC4-45E2-8268-4B8A1AB2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1600-4CC2-41E2-A248-8D6545F3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241D-CDB3-45BC-932F-ACBEB1CB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7C2C-4017-4364-A1C3-B01EB7432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5500440" cy="810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Jamie Richards</cp:lastModifiedBy>
  <cp:lastPrinted>1998-12-18T14:03:14Z</cp:lastPrinted>
  <dcterms:modified xsi:type="dcterms:W3CDTF">1999-04-21T18:59:34Z</dcterms:modified>
  <cp:revision>7</cp:revision>
  <dc:subject/>
  <dc:title>No Slide Title</dc:title>
</cp:coreProperties>
</file>