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018-EF62-4C35-B876-38039856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53E-2D05-49E2-B0CB-A89CB308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405-22FE-44C8-AE8B-33B9DDA3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B32-30AC-489B-A0A6-D6FC101C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1B7-D213-4ED9-A634-59BCAFE9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D4F-0F31-4263-95DE-127757F0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1A8-C6BC-4864-AC62-57F43D0D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8DA-AA63-458E-B7AD-38421AFD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519-1A39-4509-8943-A0743A9D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244-BA73-4DF6-A174-13EF66F9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3D0-87DF-49D6-8864-6DA9206B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4C84-C175-4E03-915C-07588CF9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98CC-93D9-4DEA-ADA1-ACCE18792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040" y="6545160"/>
            <a:ext cx="123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981080"/>
            <a:ext cx="4496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hysical fitness should be a part of everyone’s daily routine.  You will feel healthier and your self-confidence will improv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7794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23040" y="4013280"/>
            <a:ext cx="1311480" cy="20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0840" y="4049640"/>
            <a:ext cx="186516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03960" y="1830240"/>
            <a:ext cx="1559160" cy="137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905120"/>
            <a:ext cx="5715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ARM-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OOL-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817640"/>
            <a:ext cx="213372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05720" y="1770120"/>
            <a:ext cx="1371600" cy="160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470240" cy="213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1520640" cy="82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65280" y="3868560"/>
            <a:ext cx="1392120" cy="215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81532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aises Fit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otivates Cad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reates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onfirms Ability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repares Cadets for Advanced Cour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43600" y="1952640"/>
            <a:ext cx="2424240" cy="312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9600" y="6553080"/>
            <a:ext cx="668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271680" cy="4605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95680" y="1447920"/>
            <a:ext cx="51055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NDURANC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ARTIAL CURL-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USH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ANDING LONG J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50 m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HUTTL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5880" y="3379680"/>
            <a:ext cx="2533680" cy="2397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077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Keep a schedule of the games to offici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heck for any changes prior to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Report at least 30 minutes ear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Know the rules of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Look profess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Keep in good sha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atch other officials for po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1720" y="533520"/>
            <a:ext cx="646416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IES OF A SPORTS OFF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9-03-04T21:44:55Z</cp:lastPrinted>
  <dcterms:modified xsi:type="dcterms:W3CDTF">1999-04-22T20:49:36Z</dcterms:modified>
  <cp:revision>26</cp:revision>
  <dc:subject/>
  <dc:title>No Slide Title</dc:title>
</cp:coreProperties>
</file>