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B19-DA61-4E5E-9D94-321CD424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4D3-435F-4A45-AD9E-A4DC0A04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1CC-CE20-4C06-9DB5-FAC6561D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BBE-010A-4C68-90C6-BB6B4DB1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51F-633E-473E-8A22-7854D06F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515-B174-4AA7-BE3C-0702BD7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ECB-B322-4F9F-A874-580449A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224-DB24-419B-8EB2-2C0EDE7E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C48-3631-4BB4-B860-48642D9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776-C076-4006-86DE-289A10D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7FF-8A52-4E29-B87C-7D980C6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2B8-C6A2-46BE-89AB-AEE4D8A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9908-4C00-49F0-B2F8-BF40FCBF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914400" y="28191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1055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144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600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52480"/>
            <a:ext cx="609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7692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0292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767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144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342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828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0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89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0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6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7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632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4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5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69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0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1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5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4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5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26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286000" y="533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3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4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5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36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2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3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4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5:23Z</dcterms:modified>
  <cp:revision>44</cp:revision>
  <dc:subject/>
  <dc:title>No Slide Title</dc:title>
</cp:coreProperties>
</file>