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53C-F94B-4C7D-9F87-43ABFA16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EE7-430A-4A53-AFCD-ADEFF814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03E-5DB1-4713-8CCC-9610CABA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7FA-451C-4D8A-8217-85E387E8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3F4-5B57-4CC6-AB15-10F46C44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BAD-90D2-480F-8E4C-35384CC0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215-A029-471B-8C0A-6B3F4C4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B63-3EA5-45BB-AAB6-281F978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A29-7043-4777-A291-B40E7E2F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7F3-838E-4B43-B969-573B2D76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175-E735-4CFA-B89B-F0C86BE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042-2E14-4700-BD53-9DD3EE2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FEF7-2964-4611-9FFF-3853F8270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ETING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19807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the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ify the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537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et out in by-laws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member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s minority groups from dominating the procee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quorum, the chairperson can adjourn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352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0400" y="182880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048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520" y="129492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RET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13372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7:42:12Z</dcterms:created>
  <dc:creator>DND</dc:creator>
  <dc:description/>
  <dc:language>en-US</dc:language>
  <cp:lastModifiedBy>Jamie Richards</cp:lastModifiedBy>
  <dcterms:modified xsi:type="dcterms:W3CDTF">1999-04-26T03:10:00Z</dcterms:modified>
  <cp:revision>4</cp:revision>
  <dc:subject/>
  <dc:title>MEETING PREPARATION</dc:title>
</cp:coreProperties>
</file>