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FBD-91E9-403B-BC27-67367932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D44-71C9-4DFC-92D2-E4B29444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7D9-20C0-467B-81F7-CAA37DE9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CB2-22D5-4961-9DA2-8424E084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85B-FC35-4FC5-B772-970AA21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FB7-261B-40CA-BFA4-CD0F9014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0F0-D584-4A70-BA2E-7BCEB86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57C-C356-4CF1-ABDE-C1177EE9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FA8-8D99-4856-AB5C-8462E917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FCB-4A82-4C5D-9103-7C514C5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065-C5AA-47AC-9BDD-393AC1A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6F2-ECC4-4435-A51A-EABA30A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8CB-E3B4-4E42-8CDB-71C20742A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95280" y="990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295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971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295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0292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37160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029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7524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716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1600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71600" y="9903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3716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5160" y="15238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3280" y="32004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457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3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2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3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9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30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31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63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4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3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4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5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9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9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3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4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30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457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42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3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4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5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6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7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8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6:04Z</dcterms:modified>
  <cp:revision>44</cp:revision>
  <dc:subject/>
  <dc:title>No Slide Title</dc:title>
</cp:coreProperties>
</file>