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67A-A172-43E9-BE6E-2FBEE14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485-B03B-4373-B2F6-117BA7A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1FD-0C56-476B-A3C7-D145B9F3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E6-B788-470A-890A-1CE45D31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DC0-A5A2-462A-BFB5-CF27B8E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E5B-3E27-4377-A37F-50D5E50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568-C293-4973-90C9-896FA1F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9EB-548A-43AC-8FD1-BE7D9D1C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43E-DFE9-47D5-B318-467B538A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FF3-9BE5-455B-A174-DAC4707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51-8993-48DD-B955-F533303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CE2-6352-46C6-B554-09B8A1A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5019-21F7-43EF-A921-538DE76F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ETS’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2590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4:07:10Z</dcterms:created>
  <dc:creator>DND</dc:creator>
  <dc:description/>
  <dc:language>en-US</dc:language>
  <cp:lastModifiedBy>Jamie Richards</cp:lastModifiedBy>
  <cp:lastPrinted>1999-02-15T14:18:34Z</cp:lastPrinted>
  <dcterms:modified xsi:type="dcterms:W3CDTF">1999-04-21T19:13:42Z</dcterms:modified>
  <cp:revision>3</cp:revision>
  <dc:subject/>
  <dc:title>LESSON PLANNING TIPS</dc:title>
</cp:coreProperties>
</file>