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A5E-C817-44C8-9CDD-24C30E98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FC5-726B-40DC-B042-F310A5D5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5D8-79B9-4C01-A18C-556EC269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1A0-9E71-49B0-8703-CA32D882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204-147C-4D9F-8F1E-3C3506A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DA7-0B35-441A-8109-98906B65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8D7-E694-41F3-9F45-7349EB5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772-B557-4C2E-871F-4EF4015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567-1151-4056-A9C8-C07C6090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272-CB8A-452C-9EF8-FFD252D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738-0A62-4E18-AF0D-94A3551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793-3D48-429A-8CA5-1ECC7BB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EDC-D6CD-4558-90AB-35AC973F1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9120" y="374976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7840" y="39751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6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0" y="43164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9120" y="169560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920960"/>
            <a:ext cx="1872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rn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0520" y="226368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F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8840" y="325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9920" y="550800"/>
            <a:ext cx="15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rly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7720" y="89388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8840" y="5032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1320" y="5087880"/>
            <a:ext cx="128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t War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37560" y="542916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5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9080" y="577224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64320" y="169560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03040" y="174960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2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03040" y="20923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3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1400" y="24336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B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4320" y="374976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1400" y="3803760"/>
            <a:ext cx="184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Worl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87280" y="4146480"/>
            <a:ext cx="617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2760" y="448776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C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76200" y="839520"/>
            <a:ext cx="180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76200" y="83988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6200" y="2808360"/>
            <a:ext cx="180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5640" y="2808360"/>
            <a:ext cx="144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7240" y="83988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5640" y="839880"/>
            <a:ext cx="144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5640" y="486252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7240" y="563256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4862520"/>
            <a:ext cx="180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6200" y="563256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87520" y="2808360"/>
            <a:ext cx="42228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3120" y="2882880"/>
            <a:ext cx="4010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VIATION TRIVIA G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2880" y="3290760"/>
            <a:ext cx="2291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3T18:23:50Z</cp:lastPrinted>
  <dcterms:modified xsi:type="dcterms:W3CDTF">1999-01-13T18:24:14Z</dcterms:modified>
  <cp:revision>23</cp:revision>
  <dc:subject/>
  <dc:title>No Slide Title</dc:title>
</cp:coreProperties>
</file>