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5BB-C4DB-442A-A92B-ED689F9A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F6F-9DD3-47A0-A0A2-A2C1DE4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2C0-0724-458F-9BD3-49EF8061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AA5-25EC-483F-8786-ADACE3E9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D6F-CE73-444E-A361-DBAED27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A94-2214-4728-B07C-FEFCFE5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772-CD76-4B24-9141-2559B9E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FE7-1909-49C8-AD74-C905B6B7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239-28B6-4108-9C63-77E311D7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0F6-4F7B-4769-96B6-651660A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805-CB7C-4E40-B2C3-70CD06B5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A79-9DC3-46C4-AF7F-A98EDD3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478-D534-4A28-8935-4C37726BF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4120" y="838080"/>
          <a:ext cx="7468920" cy="8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838080"/>
                    <a:ext cx="7468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90720" y="1752480"/>
          <a:ext cx="556236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90720" y="1600200"/>
          <a:ext cx="5234040" cy="6324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600200"/>
                    <a:ext cx="5234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4:51Z</dcterms:modified>
  <cp:revision>7</cp:revision>
  <dc:subject/>
  <dc:title>No Slide Title</dc:title>
</cp:coreProperties>
</file>