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B70-F5FF-4EFD-85E1-A59E8356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325-906F-40E0-AF46-5EA232D1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AC6-5863-4108-9475-B06342CC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B8E-8D01-4CF2-8CFD-6A3989DF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EB4-75DF-4352-8B94-75EB9FB4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4A9-B9BB-444F-892B-6B413A8A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BF7-5FAD-48EE-B8FF-AE37C826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67D-E445-4DF6-91AA-14EEB99D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9F7-6067-4160-B8A7-0FA9B5AB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D29-8293-402B-92EC-282CD00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B19-FA0E-44E8-8B28-BDC0EC3A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6A8-D077-4DDF-B507-9EF67E07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C656-B60F-45FB-9B2F-4602D9DBC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14:39:01Z</cp:lastPrinted>
  <dcterms:modified xsi:type="dcterms:W3CDTF">1999-03-11T15:58:32Z</dcterms:modified>
  <cp:revision>19</cp:revision>
  <dc:subject/>
  <dc:title>No Slide Title</dc:title>
</cp:coreProperties>
</file>