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DBD2-18BB-448F-A982-9350EDF7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F9E-6138-47FB-832E-1279517A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A5D-5621-40DD-BD15-3FFA8F73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E6A-11BB-4B64-9D23-C439D406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E40-7108-4786-A527-905649F4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B394-8C88-4488-A0AF-06220187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B2D1-E316-420B-9F64-80FFF75B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40A1-F0D4-45B5-939B-1EB7B420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CA54-958C-4A6F-8367-0000B396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F85-8F69-45EA-A615-C23F9530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872-BC09-4EB5-9EC9-94D37C96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D467-3502-4CFC-9A83-FA210132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7674-37CF-41E1-B67F-4A270BE65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OOTW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lking: Running sh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king: Hiking b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kl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inforced t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810240" cy="3867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INGS TO BE AWARE OF WHEN HI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ce Yoursel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rink Frequen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king uph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king Downh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2254320"/>
            <a:ext cx="3809880" cy="3566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LKING UPHI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uphill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295280"/>
            <a:ext cx="5329080" cy="512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08280" y="1600200"/>
            <a:ext cx="2750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en the lengt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stride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ing uphi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ing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ythm. L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,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feet flat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LKING DOWNHI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downhill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523880"/>
            <a:ext cx="5029200" cy="4697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1828800"/>
            <a:ext cx="264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al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hill, open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de and 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slightly.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ry to go fa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ding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hard on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ees, especi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rr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ackp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9:16:44Z</dcterms:created>
  <dc:creator>DND</dc:creator>
  <dc:description/>
  <dc:language>en-US</dc:language>
  <cp:lastModifiedBy>DND</cp:lastModifiedBy>
  <cp:lastPrinted>1999-03-01T19:48:14Z</cp:lastPrinted>
  <dcterms:modified xsi:type="dcterms:W3CDTF">1999-03-01T19:52:45Z</dcterms:modified>
  <cp:revision>3</cp:revision>
  <dc:subject/>
  <dc:title>FOOTWEAR</dc:title>
</cp:coreProperties>
</file>