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0A0E-1646-4A07-AC7B-AD6223D1B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B8B2-7883-4EBA-9F91-1DE1DB28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CA21-1B1D-41B9-869D-AB3B3C894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4C0B-F269-4170-A73A-3370E0003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E2CB-5899-400F-B357-8DAEFFA1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DEF0-7E6A-427A-90E0-E9AF9245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929E-D7E0-49BE-8BC6-2D6D66D3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AA45-27C2-452D-81BC-2CAB1022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F7FD-50C4-4C01-A202-E174D63B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17E1-697A-4102-954D-C40EFA32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1F99-EB88-42FA-8F74-7A95580C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BAF4-1B71-477D-A27D-862BF5C1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29EC-E0B3-4E75-A642-75E5493E5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75320" y="90360"/>
            <a:ext cx="495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The Four Forc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4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4forces" descr=""/>
          <p:cNvPicPr/>
          <p:nvPr/>
        </p:nvPicPr>
        <p:blipFill>
          <a:blip r:embed="rId1"/>
          <a:srcRect l="0" t="13911" r="0" b="17778"/>
          <a:stretch/>
        </p:blipFill>
        <p:spPr>
          <a:xfrm>
            <a:off x="685800" y="1752480"/>
            <a:ext cx="8023320" cy="4038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51160" y="356544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U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720" y="348948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15280" y="556272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4480" y="150804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32200" y="277920"/>
            <a:ext cx="50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ll in each of the four fo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he correct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4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4forces" descr=""/>
          <p:cNvPicPr/>
          <p:nvPr/>
        </p:nvPicPr>
        <p:blipFill>
          <a:blip r:embed="rId1"/>
          <a:srcRect l="0" t="13911" r="0" b="17778"/>
          <a:stretch/>
        </p:blipFill>
        <p:spPr>
          <a:xfrm>
            <a:off x="685800" y="1752480"/>
            <a:ext cx="8023320" cy="4038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865600" y="55627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94200" y="14479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42120" y="35053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73400" y="35053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85200" y="380880"/>
            <a:ext cx="31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2T20:22:02Z</dcterms:created>
  <dc:creator>RC Air Cadets</dc:creator>
  <dc:description/>
  <dc:language>en-US</dc:language>
  <cp:lastModifiedBy>dnd</cp:lastModifiedBy>
  <cp:lastPrinted>1999-01-21T13:57:20Z</cp:lastPrinted>
  <dcterms:modified xsi:type="dcterms:W3CDTF">1999-03-24T13:02:01Z</dcterms:modified>
  <cp:revision>10</cp:revision>
  <dc:subject/>
  <dc:title>No Slide Title</dc:title>
</cp:coreProperties>
</file>