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0F49-5424-4D51-AA60-B4A5094A5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75E6-F4BC-4C5E-B792-3E8FC5BE8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7F3F-3A89-49D0-B3C5-4E0DA8AAB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7CD0-695F-4B2D-BDD1-E81FE6D84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C851-9863-4FCA-88E8-3729B371A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A62F-CB2B-4DA4-B21B-E1AFB6F72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C159-3266-428C-9859-A8F0E23DC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FB31-4AC9-4B53-AAD4-40EB72560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41ED-BF90-4791-A64B-709B31700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F834-DCAF-4F97-B8BF-F7F8616FC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A79E-F4A3-485D-895A-6FC2EF986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9D78-DD7C-454B-9296-F9CA197A2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5C9FA-A787-417E-A2E3-3A63978321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95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Tahoma"/>
              </a:rPr>
              <a:t>Officer/NCO Relationshi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447920" y="1600200"/>
          <a:ext cx="7696080" cy="4675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600200"/>
                    <a:ext cx="7696080" cy="467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"/>
          <p:cNvSpPr/>
          <p:nvPr/>
        </p:nvSpPr>
        <p:spPr>
          <a:xfrm>
            <a:off x="203040" y="6572160"/>
            <a:ext cx="8737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14840" y="6572160"/>
            <a:ext cx="1265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Two 408.04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026560" y="6572160"/>
            <a:ext cx="914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12T18:51:27Z</dcterms:created>
  <dc:creator>dnd</dc:creator>
  <dc:description/>
  <dc:language>en-US</dc:language>
  <cp:lastModifiedBy>dnd</cp:lastModifiedBy>
  <cp:lastPrinted>1999-01-12T20:36:40Z</cp:lastPrinted>
  <dcterms:modified xsi:type="dcterms:W3CDTF">1999-01-12T20:42:59Z</dcterms:modified>
  <cp:revision>5</cp:revision>
  <dc:subject/>
  <dc:title>No Slide Title</dc:title>
</cp:coreProperties>
</file>