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BFB0-49DD-445B-AADF-076C4B7C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DA9F-4E8D-4606-9840-7D6C9D74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FCE8-F118-427C-8C4B-1C37FF2D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985D-7B14-4175-8119-C12AE5F8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9223-3FD4-44EB-A01C-BF4B8153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9722-820E-479B-A6CF-23BFD3F2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6C5D-B64C-49F2-B112-87DD283C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000D-26C8-4321-8A28-25495EE9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CBCB-077F-4D0C-96A1-11934059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7EC-43A1-41BB-9B59-531F573F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010D-EE52-41AC-929A-6CD50FF1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C2C-32F8-4282-9C36-DAC8C884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9F25-27AE-4A3A-895A-22C4541D4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90320" y="152280"/>
            <a:ext cx="426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trol Surf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0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ntrols2" descr=""/>
          <p:cNvPicPr/>
          <p:nvPr/>
        </p:nvPicPr>
        <p:blipFill>
          <a:blip r:embed="rId1"/>
          <a:stretch/>
        </p:blipFill>
        <p:spPr>
          <a:xfrm>
            <a:off x="380880" y="1442880"/>
            <a:ext cx="8123400" cy="4653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78200" y="36576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LE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0600" y="37180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LE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7320" y="150804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V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16040" y="152388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924680" y="4876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9320" y="376200"/>
            <a:ext cx="386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Ailer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il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843600" cy="4707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876920" y="4419720"/>
            <a:ext cx="2666880" cy="167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96320" y="452520"/>
            <a:ext cx="35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Rud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6172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udder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615000" cy="4577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562720" y="4648320"/>
            <a:ext cx="213336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73360" y="452520"/>
            <a:ext cx="383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Eleva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7732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ele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513920" cy="4676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876920" y="4648320"/>
            <a:ext cx="3657600" cy="167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14:54:28Z</dcterms:created>
  <dc:creator>RC Air Cadets</dc:creator>
  <dc:description/>
  <dc:language>en-US</dc:language>
  <cp:lastModifiedBy>dnd</cp:lastModifiedBy>
  <cp:lastPrinted>1999-02-23T17:33:05Z</cp:lastPrinted>
  <dcterms:modified xsi:type="dcterms:W3CDTF">1999-03-24T13:05:07Z</dcterms:modified>
  <cp:revision>10</cp:revision>
  <dc:subject/>
  <dc:title>No Slide Title</dc:title>
</cp:coreProperties>
</file>