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F344-E46D-425E-9D1A-C2FC97B29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8D99-DD02-453D-9113-7AF147F2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88B3-0195-4EA3-B671-6211E6CD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F836-4B23-4DE2-BCE6-7CA7A08B0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7BA0-0ADD-468A-A114-97000781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9735-DEAB-44CD-BCEF-B45305A9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C319-6F19-40D6-9440-48BBC3C0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9CFD-A158-472D-81AD-EA475191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8DE5-0784-4975-9DE2-F6A5F346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BA01-34F1-49B5-AED7-53B3EF19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2B24-3C04-45DF-8698-4BF9C453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BC67-AEC5-465B-BFEE-2B55CD0C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196A-F05C-495D-A511-245D02348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8080" y="6572160"/>
            <a:ext cx="1193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136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LEADERS MUST HAVE CONFIDENCE I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peri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ssoci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bord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msel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2713320" cy="4003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705720" y="2362320"/>
            <a:ext cx="157140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5T20:18:40Z</dcterms:created>
  <dc:creator>dnd</dc:creator>
  <dc:description/>
  <dc:language>en-US</dc:language>
  <cp:lastModifiedBy>dnd</cp:lastModifiedBy>
  <cp:lastPrinted>1999-01-06T13:00:59Z</cp:lastPrinted>
  <dcterms:modified xsi:type="dcterms:W3CDTF">1999-02-19T19:22:45Z</dcterms:modified>
  <cp:revision>16</cp:revision>
  <dc:subject/>
  <dc:title>No Slide Title</dc:title>
</cp:coreProperties>
</file>