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7C29D-22C8-4F3E-A1C3-BC89EE985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CFEFF-0683-4BC2-8075-10DDE5B03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8FA2A-DFCD-4857-BB67-4292CA78D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F64A4-11AD-4B5D-91A0-BF690F1C0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7BB5B-19EC-4C88-BC96-08CDFE12A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DFC98-E37B-4417-9FAC-A5D7415BA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BD7CB-E23C-4983-93B4-0E448C380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2A705-A962-4C7A-834A-B3E19B81D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6CEA6-36B1-4592-9883-29098A0D5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8BE46-5234-4D61-B087-5D8E0CEEF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E21AB-D4EB-4680-89FE-0B06BC00B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CBF32-D0F1-4BC4-BB13-CCD82B080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FE7B7-2580-4B7C-A29C-2D46240EFF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ra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ra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the force that opposes the forward motion of an aircraf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two main types of drag ar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rasite dra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duced dra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asite drag is further broken into two type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rm dra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kin fric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3560" y="6551640"/>
            <a:ext cx="1177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wo 414.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459640" y="6551640"/>
            <a:ext cx="66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Parasite Dra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rasite drag is the drag produced by those parts of the aircraft that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o not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contribute to the production of lift.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rm drag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refers to the drag created by the form or shape of a body as it resists motion through the air. 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kin frictio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refers to the tendency of air flowing over a body to cling to its surface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3560" y="6551640"/>
            <a:ext cx="1177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wo 414.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459640" y="6551640"/>
            <a:ext cx="66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Induced Dra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uced drag is the drag produced by those parts of the aircraft tha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re activ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 the production of lif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the result of the wing’s work and therefore a part of lift and can never be eliminated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560" y="6551640"/>
            <a:ext cx="1177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wo 414.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459640" y="6551640"/>
            <a:ext cx="66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drag2" descr=""/>
          <p:cNvPicPr/>
          <p:nvPr/>
        </p:nvPicPr>
        <p:blipFill>
          <a:blip r:embed="rId1"/>
          <a:stretch/>
        </p:blipFill>
        <p:spPr>
          <a:xfrm>
            <a:off x="946080" y="1339920"/>
            <a:ext cx="7740720" cy="41781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806400" y="1965240"/>
            <a:ext cx="2163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NG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DUCED DR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105160" y="4952880"/>
            <a:ext cx="1752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M DR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191120" y="1676520"/>
            <a:ext cx="251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USELAGE 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D SKIN DR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502360" y="152280"/>
            <a:ext cx="3562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Types of Dra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3560" y="6551640"/>
            <a:ext cx="1177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wo 414.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8459640" y="6551640"/>
            <a:ext cx="66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23T14:54:28Z</dcterms:created>
  <dc:creator>RC Air Cadets</dc:creator>
  <dc:description/>
  <dc:language>en-US</dc:language>
  <cp:lastModifiedBy>dnd</cp:lastModifiedBy>
  <cp:lastPrinted>1999-02-23T15:00:22Z</cp:lastPrinted>
  <dcterms:modified xsi:type="dcterms:W3CDTF">1999-03-24T19:53:32Z</dcterms:modified>
  <cp:revision>3</cp:revision>
  <dc:subject/>
  <dc:title>No Slide Title</dc:title>
</cp:coreProperties>
</file>