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DA7-CBE2-49AA-B320-A1C5D364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FEB-4C6B-4C5E-9055-72702FEB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316-6720-4418-97A0-4722A150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D91-B795-4559-86CB-42D2DD6C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D2F-21A5-49BB-9B02-4D9E5B4B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728-A502-40CF-B444-D829D57F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440-9D35-41BC-A19C-88AD1F77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879-C5F5-4D74-9F3A-5F31AA22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DF7-EEC2-43F4-B354-A965C2F7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D39-9B51-403C-A9BF-BB962861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27B-CC5C-4384-845E-67B4CD98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2B8-E9B7-4F31-88DA-9BDAA6FD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9427-A30A-4EFF-97F8-4476A3EC6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11T15:57:41Z</dcterms:modified>
  <cp:revision>10</cp:revision>
  <dc:subject/>
  <dc:title>No Slide Title</dc:title>
</cp:coreProperties>
</file>