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85A-965C-4489-96D6-3361F369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6FD-48EB-439B-A3AD-226A0A37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9F16-C56C-4042-9042-CE3C25B8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AE1-6E3E-42C0-8A97-A47BDA91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82EB-C565-4572-BC5E-EEA26D44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BD5-771B-45BF-9ACF-80751A22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3DA-2524-4219-BA39-911A5134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269-5D2C-4488-B1F3-8AE01E0A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3E23-378E-4349-A4C0-28069E50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394-2B91-469D-9654-ADD2E2AD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77D-D4C9-4FF5-8ECD-E29754D7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C00A-1EBB-4B49-8409-58D5D96A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0C99-D3EA-4807-98B6-DCF0FBA53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72880"/>
            <a:ext cx="58658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he Three Levels of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0400" y="2254320"/>
            <a:ext cx="58104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.  Municip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.  Provinci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3.  Feder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72040" y="6019920"/>
            <a:ext cx="2685960" cy="2685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2880" y="876312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72880"/>
            <a:ext cx="586584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he Branches of the Federal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0400" y="2254320"/>
            <a:ext cx="581040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.  Execu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.  Legisla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. Judi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2880" y="876312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House" descr=""/>
          <p:cNvPicPr/>
          <p:nvPr/>
        </p:nvPicPr>
        <p:blipFill>
          <a:blip r:embed="rId1"/>
          <a:stretch/>
        </p:blipFill>
        <p:spPr>
          <a:xfrm>
            <a:off x="1752480" y="6400800"/>
            <a:ext cx="3505320" cy="2255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6477120"/>
            <a:ext cx="152280" cy="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7-03-18T15:08:14Z</cp:lastPrinted>
  <dcterms:modified xsi:type="dcterms:W3CDTF">1999-01-05T15:18:47Z</dcterms:modified>
  <cp:revision>6</cp:revision>
  <dc:subject/>
  <dc:title>No Slide Title</dc:title>
</cp:coreProperties>
</file>