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8B8-63AA-47B9-A8EF-038DD183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8B5-D113-4AD0-B6D0-114255C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AEB-6CF2-4B7B-B108-22818DA6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A53-F0D1-4FC5-A73C-29D2589E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6A1-1CDF-4B5E-8F46-64990CCF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5C3-5D68-4A4A-B2CC-BBEFB48F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633-F61A-4862-8B44-1547DA4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611-7735-47C6-93AC-C6DAFE77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F77-4B26-4B7D-9458-8618CB7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318-1C8C-4EF6-8402-8BB45F4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2BC-79B5-47A6-8EC2-BF802309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5B7-4C46-46AF-B5FD-F103C3E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A8ED-9582-448F-A83E-04CAC84F9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71560" y="2336760"/>
            <a:ext cx="1231200" cy="36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5480" y="265104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et" descr=""/>
          <p:cNvPicPr/>
          <p:nvPr/>
        </p:nvPicPr>
        <p:blipFill>
          <a:blip r:embed="rId1"/>
          <a:stretch/>
        </p:blipFill>
        <p:spPr>
          <a:xfrm>
            <a:off x="966960" y="1771560"/>
            <a:ext cx="680544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34000" y="1522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Jet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8920" y="190512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29960" y="190512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2120" y="190512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8400" y="4861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876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Bu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286000"/>
            <a:ext cx="9903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83960" y="3654360"/>
            <a:ext cx="524880" cy="122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2520" y="2286000"/>
            <a:ext cx="7617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668400" y="4281120"/>
            <a:ext cx="784800" cy="60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520" y="228600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urbo" descr=""/>
          <p:cNvPicPr/>
          <p:nvPr/>
        </p:nvPicPr>
        <p:blipFill>
          <a:blip r:embed="rId1"/>
          <a:stretch/>
        </p:blipFill>
        <p:spPr>
          <a:xfrm>
            <a:off x="593640" y="1969920"/>
            <a:ext cx="7255080" cy="344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42280" y="17316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urboprop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15200" y="167652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4880" y="51055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5680" y="51055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828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440" y="1676520"/>
            <a:ext cx="16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8120" y="18288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5760" y="5029200"/>
            <a:ext cx="16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40400" y="50292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867280" y="4495680"/>
            <a:ext cx="10670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23920" y="388584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505320" y="3809520"/>
            <a:ext cx="685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3623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3962160"/>
            <a:ext cx="38124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7960" y="236232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72000" y="2227320"/>
            <a:ext cx="713880" cy="9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urbo%20prop" descr=""/>
          <p:cNvPicPr/>
          <p:nvPr/>
        </p:nvPicPr>
        <p:blipFill>
          <a:blip r:embed="rId1"/>
          <a:srcRect l="6304" t="8770" r="0" b="6918"/>
          <a:stretch/>
        </p:blipFill>
        <p:spPr>
          <a:xfrm>
            <a:off x="266760" y="1370160"/>
            <a:ext cx="2705040" cy="1155600"/>
          </a:xfrm>
          <a:prstGeom prst="rect">
            <a:avLst/>
          </a:prstGeom>
          <a:ln w="0">
            <a:noFill/>
          </a:ln>
        </p:spPr>
      </p:pic>
      <p:pic>
        <p:nvPicPr>
          <p:cNvPr id="94" name="jet" descr=""/>
          <p:cNvPicPr/>
          <p:nvPr/>
        </p:nvPicPr>
        <p:blipFill>
          <a:blip r:embed="rId2"/>
          <a:srcRect l="4032" t="12346" r="0" b="4666"/>
          <a:stretch/>
        </p:blipFill>
        <p:spPr>
          <a:xfrm>
            <a:off x="227160" y="5153040"/>
            <a:ext cx="2943000" cy="1247760"/>
          </a:xfrm>
          <a:prstGeom prst="rect">
            <a:avLst/>
          </a:prstGeom>
          <a:ln w="0">
            <a:noFill/>
          </a:ln>
        </p:spPr>
      </p:pic>
      <p:pic>
        <p:nvPicPr>
          <p:cNvPr id="95" name="piston2" descr=""/>
          <p:cNvPicPr/>
          <p:nvPr/>
        </p:nvPicPr>
        <p:blipFill>
          <a:blip r:embed="rId3"/>
          <a:srcRect l="13141" t="6653" r="15232" b="3167"/>
          <a:stretch/>
        </p:blipFill>
        <p:spPr>
          <a:xfrm>
            <a:off x="685800" y="2657520"/>
            <a:ext cx="171936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2560" y="365040"/>
            <a:ext cx="48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 each engine typ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8040" y="44136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31920" y="175248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7760" y="36576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7760" y="5562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2:57Z</dcterms:modified>
  <cp:revision>7</cp:revision>
  <dc:subject/>
  <dc:title>No Slide Title</dc:title>
</cp:coreProperties>
</file>