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621-E606-4CE7-B78D-5E5E5960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076-CFB1-4140-B4BD-22E26DEC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182-61F0-4B08-9FCC-D49228BF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76D-0CE5-4BB4-910F-C5AE0B92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AB9-6E7A-4070-B63A-F6ED30B1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35C-3F60-4807-8170-263EDABD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E47-D4B0-43D1-B611-BEA6BB62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633-CA45-4EA8-90A1-DDDD171D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FCD-69A7-402F-B3BD-736DFB99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035-B43F-4DAC-89E2-F3E76B6D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92A-F24E-4433-B604-E13E5072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833-176A-4AB7-902B-96EC223D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B3F2-A441-49FA-BB6D-DCCA3A50D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4400" y="65721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Definition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nadian Forces definition of leadership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rt of influencing human behavior to accomplish a mission in the manner desired by the leade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438280" cy="200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1527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400" y="65721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Principles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d by setting a good examp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your cadets and look after their welfar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the qualities of leadership in your cade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ound and timely decis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in your cadets to work as a tea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18:40Z</dcterms:created>
  <dc:creator>dnd</dc:creator>
  <dc:description/>
  <dc:language>en-US</dc:language>
  <cp:lastModifiedBy>dnd</cp:lastModifiedBy>
  <cp:lastPrinted>1999-01-06T13:00:59Z</cp:lastPrinted>
  <dcterms:modified xsi:type="dcterms:W3CDTF">1999-01-11T14:08:40Z</dcterms:modified>
  <cp:revision>13</cp:revision>
  <dc:subject/>
  <dc:title>No Slide Title</dc:title>
</cp:coreProperties>
</file>