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30B-E1C8-4293-AD55-AE15BC3B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0CE-DB77-4FE7-99DD-4AF265A9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8E7-1A08-41B1-81ED-76D26574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710-1893-4A95-8C5C-5457D071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ACB-4533-4083-A655-A2AA4E67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701-801F-4708-85E9-E51B4D9C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DCF-4D0C-45DB-AE12-92DEB2E1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C8E-239B-4DB9-869C-845E0F2C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9CB-FAC4-4186-8406-E759BFE2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D22-5DC5-4ABC-96BB-95588772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8C5-C9EE-4569-8F60-4D498F28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25E5-401E-4899-87DF-7D3786FB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D214-48D2-4AB2-BED4-11C55B85C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34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84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66760" y="1752480"/>
          <a:ext cx="68072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1752480"/>
                    <a:ext cx="68072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34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84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LEAG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240" y="113364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124080"/>
            <a:ext cx="28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nci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0360" y="513072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46600" y="1184400"/>
            <a:ext cx="541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 member national board of dir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member national executive committ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isory committee of past presi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office run by executive dir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2280" y="3165480"/>
            <a:ext cx="504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provincial committ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 are chairman of sponsor                 committees and other appoint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vises squadrons under their jurisdi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66400" y="5181480"/>
            <a:ext cx="344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financi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uit Offi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nge training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34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84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S OF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295280"/>
            <a:ext cx="266724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2286000"/>
            <a:ext cx="266724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3657600"/>
            <a:ext cx="266724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4038480"/>
            <a:ext cx="266724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4648320"/>
            <a:ext cx="266724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95280"/>
            <a:ext cx="2666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09680"/>
            <a:ext cx="266688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590920"/>
            <a:ext cx="26668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581280"/>
            <a:ext cx="2666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440" y="228600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8280" y="2614680"/>
            <a:ext cx="21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TIONAL LEA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8080" y="291924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ADQUAR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038480"/>
            <a:ext cx="266688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IR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4876920"/>
            <a:ext cx="266688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360" y="363204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VINCIAL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3960" y="487692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O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3124080"/>
            <a:ext cx="266688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7120" y="312408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RECTOR OF CAD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8" idx="2"/>
            <a:endCxn id="69" idx="0"/>
          </p:cNvCxnSpPr>
          <p:nvPr/>
        </p:nvCxnSpPr>
        <p:spPr>
          <a:xfrm flipV="1" rot="10800000">
            <a:off x="1561320" y="3288960"/>
            <a:ext cx="1080" cy="2800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75" idx="0"/>
            <a:endCxn id="74" idx="2"/>
          </p:cNvCxnSpPr>
          <p:nvPr/>
        </p:nvCxnSpPr>
        <p:spPr>
          <a:xfrm flipV="1">
            <a:off x="1561680" y="4431600"/>
            <a:ext cx="1080" cy="432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66" idx="2"/>
            <a:endCxn id="66" idx="2"/>
          </p:cNvCxnSpPr>
          <p:nvPr/>
        </p:nvCxnSpPr>
        <p:spPr>
          <a:xfrm>
            <a:off x="1561680" y="1765080"/>
            <a:ext cx="1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66" idx="2"/>
            <a:endCxn id="66" idx="2"/>
          </p:cNvCxnSpPr>
          <p:nvPr/>
        </p:nvCxnSpPr>
        <p:spPr>
          <a:xfrm>
            <a:off x="1561680" y="1765080"/>
            <a:ext cx="1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66" idx="2"/>
            <a:endCxn id="67" idx="0"/>
          </p:cNvCxnSpPr>
          <p:nvPr/>
        </p:nvCxnSpPr>
        <p:spPr>
          <a:xfrm>
            <a:off x="1561680" y="1765080"/>
            <a:ext cx="1080" cy="432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2975760" y="5638680"/>
            <a:ext cx="26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IR CADET SQUAD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ANDING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5638680"/>
            <a:ext cx="2666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1447920"/>
            <a:ext cx="26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NISTER OF 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9120" y="2362320"/>
            <a:ext cx="26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IEF OF THE DEF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23160" y="3657600"/>
            <a:ext cx="27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ONAL CF 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403848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A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9120" y="464832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ON CADET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3280" y="502920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EA CADET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5029200"/>
            <a:ext cx="266724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5943600"/>
            <a:ext cx="2666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95120" y="2895120"/>
            <a:ext cx="508680" cy="3819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96" name=""/>
          <p:cNvCxnSpPr>
            <a:stCxn id="74" idx="3"/>
            <a:endCxn id="64" idx="1"/>
          </p:cNvCxnSpPr>
          <p:nvPr/>
        </p:nvCxnSpPr>
        <p:spPr>
          <a:xfrm>
            <a:off x="2908080" y="4228920"/>
            <a:ext cx="31755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97" name=""/>
          <p:cNvCxnSpPr>
            <a:stCxn id="75" idx="2"/>
            <a:endCxn id="86" idx="1"/>
          </p:cNvCxnSpPr>
          <p:nvPr/>
        </p:nvCxnSpPr>
        <p:spPr>
          <a:xfrm flipH="1" rot="16200000">
            <a:off x="1999080" y="4831920"/>
            <a:ext cx="521640" cy="13978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 flipV="1">
            <a:off x="2895480" y="1523160"/>
            <a:ext cx="3175920" cy="801000"/>
          </a:xfrm>
          <a:prstGeom prst="bentConnector3">
            <a:avLst>
              <a:gd name="adj1" fmla="val 49994"/>
            </a:avLst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99" name=""/>
          <p:cNvCxnSpPr/>
          <p:nvPr/>
        </p:nvCxnSpPr>
        <p:spPr>
          <a:xfrm rot="10800000">
            <a:off x="2894760" y="2437560"/>
            <a:ext cx="3201120" cy="138960"/>
          </a:xfrm>
          <a:prstGeom prst="bentConnector3">
            <a:avLst>
              <a:gd name="adj1" fmla="val 49994"/>
            </a:avLst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100" name=""/>
          <p:cNvCxnSpPr>
            <a:stCxn id="65" idx="0"/>
            <a:endCxn id="64" idx="2"/>
          </p:cNvCxnSpPr>
          <p:nvPr/>
        </p:nvCxnSpPr>
        <p:spPr>
          <a:xfrm flipV="1">
            <a:off x="7429320" y="4431960"/>
            <a:ext cx="1080" cy="203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75" idx="3"/>
            <a:endCxn id="93" idx="1"/>
          </p:cNvCxnSpPr>
          <p:nvPr/>
        </p:nvCxnSpPr>
        <p:spPr>
          <a:xfrm>
            <a:off x="2908080" y="5067000"/>
            <a:ext cx="3175560" cy="1530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102" name=""/>
          <p:cNvCxnSpPr/>
          <p:nvPr/>
        </p:nvCxnSpPr>
        <p:spPr>
          <a:xfrm rot="5400000">
            <a:off x="5765040" y="3911400"/>
            <a:ext cx="204120" cy="32011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62" idx="0"/>
            <a:endCxn id="61" idx="2"/>
          </p:cNvCxnSpPr>
          <p:nvPr/>
        </p:nvCxnSpPr>
        <p:spPr>
          <a:xfrm flipV="1">
            <a:off x="7429320" y="1993680"/>
            <a:ext cx="1080" cy="280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4" name=""/>
          <p:cNvCxnSpPr/>
          <p:nvPr/>
        </p:nvCxnSpPr>
        <p:spPr>
          <a:xfrm>
            <a:off x="7467480" y="2971440"/>
            <a:ext cx="576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6095880" y="5943600"/>
            <a:ext cx="26672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5638680"/>
            <a:ext cx="26672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4880" y="56386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39320" y="592920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FFLIATED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86" idx="3"/>
            <a:endCxn id="106" idx="1"/>
          </p:cNvCxnSpPr>
          <p:nvPr/>
        </p:nvCxnSpPr>
        <p:spPr>
          <a:xfrm>
            <a:off x="5651280" y="5790960"/>
            <a:ext cx="432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4" idx="3"/>
            <a:endCxn id="105" idx="1"/>
          </p:cNvCxnSpPr>
          <p:nvPr/>
        </p:nvCxnSpPr>
        <p:spPr>
          <a:xfrm>
            <a:off x="5651280" y="6095520"/>
            <a:ext cx="4323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111" name=""/>
          <p:cNvCxnSpPr/>
          <p:nvPr/>
        </p:nvCxnSpPr>
        <p:spPr>
          <a:xfrm rot="5400000">
            <a:off x="6580080" y="2486520"/>
            <a:ext cx="359640" cy="13294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8T19:11:42Z</cp:lastPrinted>
  <dcterms:modified xsi:type="dcterms:W3CDTF">1999-03-08T19:14:11Z</dcterms:modified>
  <cp:revision>28</cp:revision>
  <dc:subject/>
  <dc:title>No Slide Title</dc:title>
</cp:coreProperties>
</file>