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012-B0D0-4407-86EB-08369FC9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62C-3274-4D51-9958-667AC784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4B4-97DB-4E04-BD6E-55006554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451-9E86-4246-97D9-08DFF742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621-FDCE-4BD4-A7C9-B532343C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32E-AA01-4DBA-9DC5-AB229265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867-497D-4902-8D67-56A5C9F7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B74-95C6-4B4E-A5BC-4BC1D0AB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949-3DC2-4EAD-8F71-BC10E8B6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270-9987-4663-B080-4617766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36E-9841-4778-9A3D-55940C75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020-8631-46B4-9CEF-78964362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C4F9-3C9B-42D1-BD5B-5DA01770D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BBIT SN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abbit" descr=""/>
          <p:cNvPicPr/>
          <p:nvPr/>
        </p:nvPicPr>
        <p:blipFill>
          <a:blip r:embed="rId1"/>
          <a:srcRect l="0" t="0" r="0" b="24075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QUIRREL SN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quirrel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8:15:56Z</dcterms:created>
  <dc:creator>DND</dc:creator>
  <dc:description/>
  <dc:language>en-US</dc:language>
  <cp:lastModifiedBy>DND</cp:lastModifiedBy>
  <dcterms:modified xsi:type="dcterms:W3CDTF">1999-03-01T13:12:24Z</dcterms:modified>
  <cp:revision>2</cp:revision>
  <dc:subject/>
  <dc:title>RABBIT SNARE</dc:title>
</cp:coreProperties>
</file>