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222-A5B9-481F-902F-105B02FB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5B3-959E-4E34-9C0D-C4E476DA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BC0-3B43-4730-AD0F-CCD7A95F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BAA-C24B-409E-9B72-544C3547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8B6-B3C1-4D81-81C9-4CFFEE4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117-BCC1-45E1-B683-B7EBA0A8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D8B-6BF3-4906-99AC-83ADFD4A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BD7-C2F5-4A8F-85E4-53AC2C08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833-D576-40CB-B69C-439C46E7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67B-E1A5-4EBF-9413-2221D2D2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EE4-E9BB-48D5-8BA1-3979C7A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43D-C452-442D-8A6E-3FF5C120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AF84-28EF-4C0F-B14F-1BFABE04A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80880" y="914400"/>
            <a:ext cx="11125080" cy="172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Alp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– In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– Queb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– Yank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Bra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Juli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 – Rom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- Zu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– Charl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– Ki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– S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Del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 – L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– Ta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 – M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– 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– Foxt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Nove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– V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– Go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– Os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– Whis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Ho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– Pa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– X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ONETIC ALPH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dio" descr=""/>
          <p:cNvPicPr/>
          <p:nvPr/>
        </p:nvPicPr>
        <p:blipFill>
          <a:blip r:embed="rId1"/>
          <a:srcRect l="0" t="0" r="62520" b="63307"/>
          <a:stretch/>
        </p:blipFill>
        <p:spPr>
          <a:xfrm>
            <a:off x="6248520" y="2514600"/>
            <a:ext cx="2282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2819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- ZEE-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 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-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- FOW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219320"/>
            <a:ext cx="35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- F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-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- 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- 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- NIN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msqn" descr=""/>
          <p:cNvPicPr/>
          <p:nvPr/>
        </p:nvPicPr>
        <p:blipFill>
          <a:blip r:embed="rId1"/>
          <a:srcRect l="0" t="0" r="76968" b="53138"/>
          <a:stretch/>
        </p:blipFill>
        <p:spPr>
          <a:xfrm>
            <a:off x="5238720" y="1676520"/>
            <a:ext cx="39052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5:32:14Z</dcterms:created>
  <dc:creator>DND</dc:creator>
  <dc:description/>
  <dc:language>en-US</dc:language>
  <cp:lastModifiedBy>DND</cp:lastModifiedBy>
  <cp:lastPrinted>1999-01-14T15:52:08Z</cp:lastPrinted>
  <dcterms:modified xsi:type="dcterms:W3CDTF">1999-01-29T19:55:20Z</dcterms:modified>
  <cp:revision>6</cp:revision>
  <dc:subject/>
  <dc:title>PHONETIC ALPHABET</dc:title>
</cp:coreProperties>
</file>