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481-A587-4D63-B276-49C65DFC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0A1-0308-40DB-A98F-C9AA9CD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B97-1D66-4EDB-9DA1-191CE776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309-183B-4904-B551-F17FDDCA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6A9-FCBE-4AF4-8ECD-9D767589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2F6-B8AB-42C2-9828-959272FF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FA4-7D25-43ED-8842-F4F233AB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C31-0A8C-477F-8890-101AD562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67B-3810-4436-B939-D1D55248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AFE-F585-462C-8B77-F6723DF0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4DA-F082-40F0-A409-ED928135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460-51DF-46AA-8D1F-F02B88A3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733F-9086-4B32-B812-438A02438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3880" y="1828800"/>
          <a:ext cx="4319640" cy="6781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828800"/>
                    <a:ext cx="4319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1:32Z</dcterms:modified>
  <cp:revision>5</cp:revision>
  <dc:subject/>
  <dc:title>No Slide Title</dc:title>
</cp:coreProperties>
</file>