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57B-C436-4AED-B4B3-744624D6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7C3-0F12-471A-B4B9-438A426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ED9-85D7-4906-9E2E-32605EE7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D12-6AD0-40A0-97E6-30FDA830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D80-D87C-40C5-86E2-9277C36F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A56-1073-44DD-90F4-920D905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5F1-5A1A-407D-93EB-F21D2C7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1FF-E675-4877-B3F3-3AB31E57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7F7-B342-4C93-9AE7-2B2061F9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E7C-443F-4B8A-92E0-F3E5DB4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84B-201E-4536-A39E-7A87F60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EA6-CF8D-4B7F-8C56-0EE4114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D109-3301-417C-92E1-6F00F877F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95520" y="2001960"/>
          <a:ext cx="6086520" cy="40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01960"/>
                    <a:ext cx="608652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3276720"/>
          <a:ext cx="3048120" cy="291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76720"/>
                    <a:ext cx="30481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248520" y="3276720"/>
          <a:ext cx="2819160" cy="28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3276720"/>
                    <a:ext cx="28191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95520" y="2077920"/>
          <a:ext cx="6086520" cy="405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7792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3505320"/>
          <a:ext cx="370368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05320"/>
                    <a:ext cx="370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640480" y="3505320"/>
          <a:ext cx="3503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0480" y="3505320"/>
                    <a:ext cx="3503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0"/>
          <a:ext cx="8305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429000" y="1676520"/>
            <a:ext cx="2819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hysical St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oug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Quick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oo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uman 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ead3a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29000" cy="3467160"/>
          </a:xfrm>
          <a:prstGeom prst="rect">
            <a:avLst/>
          </a:prstGeom>
          <a:ln w="0">
            <a:noFill/>
          </a:ln>
        </p:spPr>
      </p:pic>
      <p:pic>
        <p:nvPicPr>
          <p:cNvPr id="72" name="Lead3b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5909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30T18:14:12Z</cp:lastPrinted>
  <dcterms:modified xsi:type="dcterms:W3CDTF">1999-01-11T20:25:39Z</dcterms:modified>
  <cp:revision>8</cp:revision>
  <dc:subject/>
  <dc:title>QUALITIES OF A LEADER</dc:title>
</cp:coreProperties>
</file>