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005-22BE-452F-9731-F4493AE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644-FD01-4B14-A089-B401C8C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036-0F50-4B1B-943B-FA4A1B40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B4A-9D00-4235-8820-4708DB59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9C6-37F2-4CED-820C-77704C0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859-41D2-4223-A1DE-B5AEBAD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D65-7A02-4CAB-9925-594FBD7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322-4097-49E0-A30A-4AB869C8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116-D195-468D-9923-69CC3A61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597-4FA9-42AB-9680-1A31E46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CE6-D00F-4216-93FB-545703D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14C-6ED1-47D9-A9B2-0F0183A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9FFD-C8BC-4A06-A1BD-5CB5B6D9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23T15:24:37Z</dcterms:modified>
  <cp:revision>21</cp:revision>
  <dc:subject/>
  <dc:title>No Slide Title</dc:title>
</cp:coreProperties>
</file>