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8E6-145A-44AE-9B4B-166029E6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492-62C5-4A95-8F0A-B368ECE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6F2-8E6E-41D8-8BD9-5BD6DF6A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81F-072A-425F-92A9-850AF111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6AF-DAE8-4353-BE18-B694741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932-AF21-4155-86DC-3F8CE9A1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7E6-BA12-4059-AC69-EA296164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01D-B887-42C6-ACEC-D6A7429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B4A-E7D4-43C1-952C-EE44230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A0C-0B01-46D2-A388-F0435A3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289-C12C-4B48-A317-B472AAA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A7D-2B66-4D55-9C81-9021097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C65-5402-451E-AC6B-729E978F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cracy -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igarc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Guatema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mocracy -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00" y="6545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36232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iraq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2286000" cy="125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rms of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8" name="Guatemala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08:03Z</dcterms:created>
  <dc:creator>dnd</dc:creator>
  <dc:description/>
  <dc:language>en-US</dc:language>
  <cp:lastModifiedBy>dnd</cp:lastModifiedBy>
  <cp:lastPrinted>1999-03-05T12:12:33Z</cp:lastPrinted>
  <dcterms:modified xsi:type="dcterms:W3CDTF">1999-03-05T12:12:36Z</dcterms:modified>
  <cp:revision>6</cp:revision>
  <dc:subject/>
  <dc:title>Forms of Government</dc:title>
</cp:coreProperties>
</file>