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2E8-7E0A-4E2B-90F3-C50E0111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97B-E1AA-4E48-BB86-A221D198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FEA-69EF-40AF-BA02-ABB41297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31F-E790-4650-A29A-2359CCB9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50D-27E2-467D-B157-9E7BF759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44F-DEC1-45A2-B493-FDF2D20D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0F9-027E-41CE-BB62-776469EA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1A3-8529-4293-A0DF-DB43FB2C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3AA-6E90-4C0B-9FA3-900786FA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1B1-1DC7-4CEF-89C5-30D192F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959-B54D-4C26-8A15-7EE4D1D5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921-D375-4197-830C-11D56475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CFA4-8BB6-48D6-9E40-ACCF72635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560" y="15228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nal Combustion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29559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27360" y="127944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760" y="37940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81160" y="173664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85000" y="173664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428360" y="3689640"/>
            <a:ext cx="1125360" cy="1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7960" y="350532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504680" y="5365800"/>
            <a:ext cx="11250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3920" y="5165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ks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92360" y="152280"/>
            <a:ext cx="387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dial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adial" descr=""/>
          <p:cNvPicPr/>
          <p:nvPr/>
        </p:nvPicPr>
        <p:blipFill>
          <a:blip r:embed="rId1"/>
          <a:stretch/>
        </p:blipFill>
        <p:spPr>
          <a:xfrm>
            <a:off x="1981080" y="1285920"/>
            <a:ext cx="5419800" cy="5114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31720" y="152280"/>
            <a:ext cx="59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rizontally Opp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rizontal" descr=""/>
          <p:cNvPicPr/>
          <p:nvPr/>
        </p:nvPicPr>
        <p:blipFill>
          <a:blip r:embed="rId1"/>
          <a:stretch/>
        </p:blipFill>
        <p:spPr>
          <a:xfrm>
            <a:off x="2009880" y="1701720"/>
            <a:ext cx="51228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72200" y="152280"/>
            <a:ext cx="201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-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nline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91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parts of the internal combustion engine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428360" y="3689640"/>
            <a:ext cx="1125360" cy="1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504680" y="5365800"/>
            <a:ext cx="11250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523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21337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8098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523880" y="4191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23520" y="32767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371600" y="23623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40840" y="380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762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2:59:42Z</dcterms:created>
  <dc:creator>RC Air Cadets</dc:creator>
  <dc:description/>
  <dc:language>en-US</dc:language>
  <cp:lastModifiedBy>dnd</cp:lastModifiedBy>
  <cp:lastPrinted>1999-02-25T13:36:32Z</cp:lastPrinted>
  <dcterms:modified xsi:type="dcterms:W3CDTF">1999-03-24T20:21:37Z</dcterms:modified>
  <cp:revision>10</cp:revision>
  <dc:subject/>
  <dc:title>No Slide Title</dc:title>
</cp:coreProperties>
</file>