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FF8-6CAE-4396-B7A9-8C0ADA82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CA2-31F3-4ED1-939E-23B3A8F9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84C-E6C1-4194-9C07-0542A907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CF2-41A6-4A0D-9BDD-59BA51DE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2D2-545B-405C-8C31-B3F954B9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A17-0E32-4415-AEA8-F0B3BF49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894-13C1-4B72-B71C-3417A288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4E0-FE81-40BB-87B1-E5E290DD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7CD-61F9-436D-B543-BBB21281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80E-3B12-4789-9302-9E324C7F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86F-9411-429B-ADF6-6144D8E9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029-AA2A-46C7-919E-4B94368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9DB0-4DBB-4818-A64F-9EAAE1EBA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eaker" descr=""/>
          <p:cNvPicPr/>
          <p:nvPr/>
        </p:nvPicPr>
        <p:blipFill>
          <a:blip r:embed="rId1"/>
          <a:srcRect l="0" t="0" r="39844" b="0"/>
          <a:stretch/>
        </p:blipFill>
        <p:spPr>
          <a:xfrm>
            <a:off x="5181480" y="160020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CONF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0"/>
            <a:ext cx="4648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PREPARED TO SPEAK ANY TIME ANY PLACE ON SUBJECTS THAT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YOURSELF BY INTELLEGENT PRACTISE TO ORGANIZE YOUR THOUGHTS QUICKLY AND EFFECTIV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0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UR GUIDELINES FOR IMPROMPTU SPEE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362320"/>
            <a:ext cx="5943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SP FIRS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A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INTRODUCTION, MAIN          IDEAS AND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REASONING AND IMMAG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0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7:48:36Z</dcterms:created>
  <dc:creator>DND</dc:creator>
  <dc:description/>
  <dc:language>en-US</dc:language>
  <cp:lastModifiedBy>DND</cp:lastModifiedBy>
  <dcterms:modified xsi:type="dcterms:W3CDTF">1999-03-08T14:26:02Z</dcterms:modified>
  <cp:revision>2</cp:revision>
  <dc:subject/>
  <dc:title>DEVELOPING CONFIDENCE</dc:title>
</cp:coreProperties>
</file>