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302-6E26-4914-9CD1-144104A2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6AA-BA50-469F-9A48-84088C7C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EA1-E7AE-40BE-9661-8C28D2F3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B76-6821-4163-9F92-03363D7B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F44-C009-4C8B-BEE0-2501CD63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1AA-D065-429B-A02B-FD62DB50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853-EFEB-4AB0-91E9-FCC09139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F9F-E542-4CFC-BAC1-3BBC5763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72D-6696-4A33-8A94-6560F459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2D7-997A-4B27-A39B-0BBAF0C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5FC-B6F2-495B-A36F-003D9588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BC0-5DA6-47C5-82E6-C83244E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8CD8-F340-40F7-864D-2F6CC5E00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5240" y="6545160"/>
            <a:ext cx="160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5:57:02Z</cp:lastPrinted>
  <dcterms:modified xsi:type="dcterms:W3CDTF">1999-03-11T15:57:04Z</dcterms:modified>
  <cp:revision>21</cp:revision>
  <dc:subject/>
  <dc:title>No Slide Title</dc:title>
</cp:coreProperties>
</file>