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E35-C3A7-488B-8608-15B2C0A3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C46-7166-449C-B7CC-0B8E1BE6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749-4FD6-490D-A2CB-076F49F0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086-73E5-46B3-AEEC-6AE9DD2F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35F-284E-4D50-AEA6-7A6B0D89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2FA-2AB2-40C1-B860-E7A3D2F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1EE-D5F5-4A2A-BEC8-16C5F9C9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0D9-7C0F-42A9-98C5-C5BBD70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19E-2D5E-49B0-BDC2-C84A6FF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047-736A-419D-AE87-24DB973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DDE-5134-4473-947F-D76F4F9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AC3-AA34-4576-A9F9-9277122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978B-D269-4B83-82D6-CB63CE93B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1-07T00:39:44Z</dcterms:modified>
  <cp:revision>23</cp:revision>
  <dc:subject/>
  <dc:title>No Slide Title</dc:title>
</cp:coreProperties>
</file>