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16E-306C-4275-9625-23EC8C8E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71A-77C6-4D6E-9EF5-5C5FA7A3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EEC-725A-454C-8C06-32830557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12C-5CDA-4DE2-A330-64AD0699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91A-EB71-454D-BAB6-F5128DC6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D54-C60D-4169-BDB3-A096EBB8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0A2-B8DD-41A0-A67F-3D185FB6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648-440D-4197-9CF8-FDF5BE42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ECB-F6B6-47F8-928A-FA70C1FD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A145-3FF8-4AAB-96C0-E28D66EA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D6B-7B82-4A40-A537-751EE7C1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702-143F-45C4-8D6B-27CB171C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FDC0-4E21-493D-9236-EF04301C6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ffect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48006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35:04Z</dcterms:created>
  <dc:creator>DND</dc:creator>
  <dc:description/>
  <dc:language>en-US</dc:language>
  <cp:lastModifiedBy>DND</cp:lastModifiedBy>
  <cp:lastPrinted>1998-12-18T13:39:01Z</cp:lastPrinted>
  <dcterms:modified xsi:type="dcterms:W3CDTF">1998-12-18T13:40:08Z</dcterms:modified>
  <cp:revision>1</cp:revision>
  <dc:subject/>
  <dc:title>No Slide Title</dc:title>
</cp:coreProperties>
</file>