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587-B924-4B1E-91A8-5F1A38A1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2DF-B598-4ECF-ACEC-E3072F27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B45-4276-4E98-9CE8-7BF4BC51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154-45B5-45F3-8513-2C2BE9E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B09-CADC-47A6-A9DB-2A9559B6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94B-85A7-4347-B6F1-ED1BF6E1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AF5-FAFA-4F28-8599-9D4737C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C3F-B4B3-4248-A0DC-DCCA330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28C-ADBC-4C21-87AD-A19DD79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1BE-9A16-4E49-8B92-574DD39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328-9D7F-43FB-A114-A5459F9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72B-092F-4264-B4F6-C5018D8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EC0-0642-4067-BAD9-F00C3DEB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152280"/>
            <a:ext cx="432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8640" y="49370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86440" y="22096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5160" y="24382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440" y="4114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0" y="4495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following axes and the movements abou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95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666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514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76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838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9:55:11Z</dcterms:modified>
  <cp:revision>7</cp:revision>
  <dc:subject/>
  <dc:title>No Slide Title</dc:title>
</cp:coreProperties>
</file>