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48D-6CFC-4CEB-AB92-549A6E60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58A-208C-461B-9D0F-8C08E75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823-1ED4-42BA-AE0F-D4FA148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9E9-146B-485B-BC60-F6A92CF1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E99-2EBD-422E-ACF8-B6D3BA9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1C8-8214-422B-A2D6-34F67EF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DFE-CCDA-4E22-A944-120556E4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655-EC71-4AD3-A802-ECCD5A12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1AA-F969-46E7-BE8D-E574526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6D5-F131-4AD3-BAD8-FE1702C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0D9-9438-43FC-BF93-C5C7887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716-86FC-4EF4-AA56-6F78817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411F-5F8A-4E95-BA85-ED585ED69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83160" y="15228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ake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ntake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7920" y="15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ssion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pression" descr=""/>
          <p:cNvPicPr/>
          <p:nvPr/>
        </p:nvPicPr>
        <p:blipFill>
          <a:blip r:embed="rId1"/>
          <a:stretch/>
        </p:blipFill>
        <p:spPr>
          <a:xfrm>
            <a:off x="293688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5228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wer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ower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4880" y="15228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haust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xhaust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ak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98144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compression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ower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exhaust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90512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19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19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019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 of each strok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90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2-26T20:16:12Z</cp:lastPrinted>
  <dcterms:modified xsi:type="dcterms:W3CDTF">1999-03-24T20:23:44Z</dcterms:modified>
  <cp:revision>10</cp:revision>
  <dc:subject/>
  <dc:title>No Slide Title</dc:title>
</cp:coreProperties>
</file>