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80E-D078-49F4-8E6F-445BCCA6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34B-D172-47D1-8CEA-5DB299D4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926-47E7-4D27-9183-2C51B2BD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BBBC-177A-4E25-BA30-C02FDE34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C6B9-1B78-4B9E-9670-B973F803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1EB-D2A2-4E25-957F-C9336886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41C-9847-40FF-8D87-ED293A8A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731-5ADF-4C66-AB0B-EB1DEEB4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C84B-1B20-4375-8838-5A7B9F0F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C92-F67A-4614-82E3-7C01C332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D211-D258-425B-A759-F042AA09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BEE-9629-4256-ABAD-ABE9776E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847F-B028-463C-9C51-4D0344796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ead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09120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08T13:16:59Z</dcterms:modified>
  <cp:revision>5</cp:revision>
  <dc:subject/>
  <dc:title>No Slide Title</dc:title>
</cp:coreProperties>
</file>