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7325-1B00-4789-8E1D-F10716D2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5824-3DA3-4B1C-8C0B-70E8A057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DBAE-78B8-45E9-9888-D89C282A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008C-727C-435C-9F55-D2721ACC7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FF68-1FF4-4E26-8D27-A550CAC1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12EC-14E0-41D9-9A1C-F031DF96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4C9A-A28E-4A68-85F9-B0D2B81F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6B3B-1C68-4207-A34C-09DD653C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48E6-F119-4629-9307-2E3D7661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691F-2370-47EA-B2F8-F128EBF7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157E-469E-4B2C-9C28-61031BFB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07F2-F824-4512-B511-9AF3FE75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A01B-DB1E-41D0-AE68-C6C565171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200" y="6572160"/>
            <a:ext cx="1271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8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Principles of Lead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unicate your ideas and thought clearl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 your cadets informed of all event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ke good personal initiativ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now your strengths and weaknesses;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eat your cadets as you would like to be tre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1T14:02:20Z</dcterms:created>
  <dc:creator>dnd</dc:creator>
  <dc:description/>
  <dc:language>en-US</dc:language>
  <cp:lastModifiedBy>dnd</cp:lastModifiedBy>
  <dcterms:modified xsi:type="dcterms:W3CDTF">1999-01-11T14:08:21Z</dcterms:modified>
  <cp:revision>2</cp:revision>
  <dc:subject/>
  <dc:title>The Principles of Leadership</dc:title>
</cp:coreProperties>
</file>