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5B7-AAD2-49D4-A5D5-9EA6FDC3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A99-31D5-4473-83E9-3FFF036F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414-D9BD-4EE7-9F68-4685735F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AC2-3D21-4DAF-AF6B-CA3ADDE2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C59-468B-43F7-AAA9-F25D03CB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4BF-EB00-4CBA-8EA1-4C26EB11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B2E-2B2C-436E-9215-E98E4AB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A50-82B5-42F3-8C85-2B002A6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5DC-AA7A-43D2-BDC5-C891F080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9A5-93A8-4815-AE5D-2E0D0CB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2B1-C937-4F37-A026-436E160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0A1-26EB-44AF-8FF0-021B342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10C4-D077-4374-BDB3-BE735533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whispering each of the following clear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thing each word separately. Have some other person listen to you from more than 25 feet away. Say your name, your age, your home squadron. Read a sentence from a book. Perform this drill at least 3 full times. Keep slowing down your pace, making sure you use your jaw, lips and tongue on every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3 - Voice Exercises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3:00:09Z</dcterms:modified>
  <cp:revision>5</cp:revision>
  <dc:subject/>
  <dc:title>FACTORS THAT AFFECT THE HUMAN VOICE </dc:title>
</cp:coreProperties>
</file>