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B95-3D96-4321-83E6-BD6D030F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8C2-7F66-4A76-A97C-77A177D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FAF-D375-47B4-A700-615BBEED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674-4469-460A-8D69-5A317CC5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A7C-3D3B-45AF-B13D-D94363C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9A3-BB80-437E-B820-5D4763E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DB2-55C5-4418-AA7A-76F1713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357-5A49-4316-8F38-80ECFFC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099-FE7E-40F0-AD19-FFE71E32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0B4-D63B-4D37-83C1-43DA22CE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9B1-7909-4E57-9085-8093DAD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CF7-CF9E-434E-8E03-DC65395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C6E-59C8-4B34-9C2B-71F8D2484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Answer Key 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95480" y="5334120"/>
          <a:ext cx="685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334120"/>
                    <a:ext cx="68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3886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581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41911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44956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1911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8006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1055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143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447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752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533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2T20:21:17Z</dcterms:modified>
  <cp:revision>19</cp:revision>
  <dc:subject/>
  <dc:title>No Slide Title</dc:title>
</cp:coreProperties>
</file>