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C8D-8DBE-4C7F-B51B-B6FCDCBE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AC5-38E4-41FA-94BA-1DE1B726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C4B-AD53-40AE-A415-D3802B50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AD1-C189-4D68-8F21-48DDBCBC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5A5-03D0-4042-A47F-3578F917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DAE-69EE-456C-95C7-D19BFAA0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87F-34F6-4932-95FB-DD8C4B2F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E8C-BB2F-4AF7-9FC1-DDD298A4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47C-27F8-43A5-BDCE-5453243F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F4B-7E97-47FA-9C6D-F96422A0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CE2-F5CE-4385-9206-DD51D98E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613-A3AD-491E-8CF7-C11C5FFA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0B99-E954-415E-9A71-041F07599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iizen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5880" cy="78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04T18:05:20Z</dcterms:modified>
  <cp:revision>2</cp:revision>
  <dc:subject/>
  <dc:title>No Slide Title</dc:title>
</cp:coreProperties>
</file>