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4F6-52DD-4766-BF58-07404292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5AA-BCCF-489A-950F-1F972AC7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5FD-41CC-42CF-A64D-3FE76302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56F7-1A0E-44FD-9FFA-6029E6C0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E5E-3CBB-493A-B740-FA7B99F3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92A-0445-4B4B-A519-C3727493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917-4AA8-421F-88EF-0A8F580C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C63-734A-445F-8ACC-103FDA49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9ED-6F5A-45D5-88DC-E8073B89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F4F-D45A-4001-BCED-16BA6784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B4C-AC59-484B-B1D4-D1CEBCD9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919-817B-42F2-8C30-3985978D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612D-FA17-451B-9587-5A313CD53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990720"/>
          <a:ext cx="8002440" cy="91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90720"/>
                    <a:ext cx="8002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47920" y="2057400"/>
          <a:ext cx="5105160" cy="5803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057400"/>
                    <a:ext cx="510516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376280" y="2133720"/>
          <a:ext cx="4783320" cy="6095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6280" y="2133720"/>
                    <a:ext cx="47833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25:14Z</dcterms:modified>
  <cp:revision>11</cp:revision>
  <dc:subject/>
  <dc:title>No Slide Title</dc:title>
</cp:coreProperties>
</file>