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DF0-35BA-4446-93E9-F49B2F97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B40-A6F3-4E51-8D48-C265E576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4CB-A981-4C77-9C50-C3F153F7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471-E33C-4458-AD21-BD1368BA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F77-07A4-468E-A0FB-D8C9E34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1F6-F256-4A13-98A5-B4B666F9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0FF-3AA3-4A72-9B14-C48821BD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EDA-B096-4473-87C4-868B38FA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7BB-06AF-4E4E-9C88-EBD49BC8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2EA-C3CC-4E70-9FAD-3740ADF6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11B-98BD-4AFC-A58E-757E2E93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8BF-3182-4C40-8DF0-8CD8437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FAFD-978D-4F98-B631-9F0039FE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286000"/>
          <a:ext cx="5400720" cy="469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286000"/>
                    <a:ext cx="54007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52Z</dcterms:modified>
  <cp:revision>6</cp:revision>
  <dc:subject/>
  <dc:title>No Slide Title</dc:title>
</cp:coreProperties>
</file>