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5295-AC70-447B-8A6B-8DF885EAC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4595-6420-4808-9904-FC59F3E46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3E0E-BE76-4F65-9959-E9F79AF1B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2BBB-8188-491A-8E28-16C32DE57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9387-F499-41B1-AEF4-22938D902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6CF0-2A86-4814-BBFF-5DD00F535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D7BE-07C9-4322-9C74-9D06FDDB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1D5E-4660-463C-B2D5-43FCC549E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B6CB-3BBD-4D4A-A90A-9DB068717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AA7C-DF7E-4FE2-97A7-EE9100A9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05D6-EB44-4E6B-9752-2D38C039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F933-4B16-4F00-9B7F-66F1DA04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DB6CE-425F-43F9-BD02-6CDEB0D2E5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LEAN-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9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ean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696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AN-TO CONSTR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leantoo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229600" cy="4952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9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height2" descr=""/>
          <p:cNvPicPr/>
          <p:nvPr/>
        </p:nvPicPr>
        <p:blipFill>
          <a:blip r:embed="rId1"/>
          <a:stretch/>
        </p:blipFill>
        <p:spPr>
          <a:xfrm>
            <a:off x="3657600" y="1143000"/>
            <a:ext cx="2260440" cy="53434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LENGTH OF RIDGE 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30600" y="1523880"/>
            <a:ext cx="11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F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20004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9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PRUCE BOUGH COV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TREES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380880" y="213372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9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9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FALLEN TREE SHEL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newtree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7219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6T14:41:36Z</dcterms:created>
  <dc:creator>DND</dc:creator>
  <dc:description/>
  <dc:language>en-US</dc:language>
  <cp:lastModifiedBy>DND</cp:lastModifiedBy>
  <cp:lastPrinted>1999-03-01T14:46:34Z</cp:lastPrinted>
  <dcterms:modified xsi:type="dcterms:W3CDTF">1999-03-01T18:43:16Z</dcterms:modified>
  <cp:revision>11</cp:revision>
  <dc:subject/>
  <dc:title>SPRUCE BOUGH COVERING</dc:title>
</cp:coreProperties>
</file>