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BC2-E8E3-4142-80C4-8F797BE2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8D3-4E6B-4EF8-B151-C388FB4C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235-B2A1-490E-8D98-C75EBCEB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39E-0F17-45BE-8B51-AAEF4B1A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5FA-9719-4645-99A8-89C1B1D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78B-7E9B-4141-A9C0-E226619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5BE-02F0-424F-982C-DE3D2DF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DBC-402B-450B-9725-E651C65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24D-30A8-4560-B507-B40A79E8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BB8-3BAD-42E0-A040-5736CFB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52A-0325-4F68-A29A-4E713B2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2E3-E688-4595-9C06-B22E427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2ED-C03C-499C-86B5-348CF054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WO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143000"/>
          <a:ext cx="11753640" cy="69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117536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8T21:30:18Z</cp:lastPrinted>
  <dcterms:modified xsi:type="dcterms:W3CDTF">1999-01-28T21:35:57Z</dcterms:modified>
  <cp:revision>24</cp:revision>
  <dc:subject/>
  <dc:title>No Slide Title</dc:title>
</cp:coreProperties>
</file>