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4DA-925F-4D9A-A36A-3CD932BF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000-1B09-4CEB-8E8D-866D38B5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D6D-69C0-43BC-8C45-6648DED4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5C4-E59E-46C2-85C4-72BB9F9E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21B-DBD3-4C46-9CED-83354C45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2ED-532A-462D-88E1-AA5B7C6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625-1C2F-4CDE-9675-3B4457D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0C1-E213-4220-87DA-EA577CCE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569-0106-4FF3-BDE6-0AA299E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28D-6230-4F00-86BC-5C5952D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29A-21EF-41F3-B5EB-8745C8A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B36-19C2-4C5B-B5F7-62427B0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276-DA31-4F51-9A7C-F9D996D32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MY CADET JUNIOR NCM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33400" y="4724280"/>
            <a:ext cx="154332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5320" y="1752480"/>
            <a:ext cx="21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429000"/>
            <a:ext cx="336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4906800"/>
            <a:ext cx="4282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ter 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MY CADET SENIOR NC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1447920" cy="1209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1143000"/>
            <a:ext cx="286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2666880"/>
            <a:ext cx="486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334120"/>
            <a:ext cx="502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487692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3733920"/>
            <a:ext cx="571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ter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2438280"/>
            <a:ext cx="154332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144792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05320" y="990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57200" y="23623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352680" y="40384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0" y="51814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809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514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21932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371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666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4956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30481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aster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erge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hief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Master Cor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Corpo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791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letter with correct rank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Y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400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04T22:22:14Z</cp:lastPrinted>
  <dcterms:modified xsi:type="dcterms:W3CDTF">1999-02-16T22:33:16Z</dcterms:modified>
  <cp:revision>21</cp:revision>
  <dc:subject/>
  <dc:title>No Slide Title</dc:title>
</cp:coreProperties>
</file>