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FE0C-EB82-421E-8384-EA39A432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9D67-4970-40FB-A0DA-50420174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8D3F-B17F-460D-A4A7-5F743A90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B41A-3DCD-40E2-82C7-9741852B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3674-BFC4-4BB8-BD27-C9676831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3D0F-F466-4EDC-B7BC-DEBCA8D9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A7F5-8068-49BB-A30E-66658B7E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B76E-A4DF-418D-AE2A-EF894840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24D1-B009-436C-B475-EED14ACA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F12B-9898-4F70-8CA1-2DC36BEB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24CA-2E8C-4486-B3B1-0BE6E2FB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DF75-5C52-451A-8CBD-AF8E408E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8B77-B122-4CAC-A43B-D28BA8E21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4120" y="914400"/>
          <a:ext cx="7621560" cy="87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914400"/>
                    <a:ext cx="762156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676440" y="1905120"/>
          <a:ext cx="5876640" cy="4208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440" y="1905120"/>
                    <a:ext cx="587664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416" descr=""/>
          <p:cNvPicPr/>
          <p:nvPr/>
        </p:nvPicPr>
        <p:blipFill>
          <a:blip r:embed="rId5"/>
          <a:srcRect l="1936" t="0" r="0" b="0"/>
          <a:stretch/>
        </p:blipFill>
        <p:spPr>
          <a:xfrm>
            <a:off x="1168560" y="2057400"/>
            <a:ext cx="47433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19:16Z</dcterms:modified>
  <cp:revision>9</cp:revision>
  <dc:subject/>
  <dc:title>No Slide Title</dc:title>
</cp:coreProperties>
</file>