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8F11-F11D-491F-8027-7C44445A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EF5-A850-4CE9-A57F-093CEF04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275-7113-46ED-A339-6016AE8E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D8F-2A6C-40B8-97CE-20341764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0EE-F41B-4082-9B71-44F1B337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BB46-46C4-4B7A-B9FA-132C0146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864-96C7-4F4E-9830-B3C98088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9787-123D-4326-AC2C-47EF58EE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6FB-51CF-4630-B131-FE9F60E5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14B-EB79-49CE-8489-DFDDD896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943B-DD68-4D86-9FFE-B49A4BFE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83FD-11E1-4902-BAEE-16FEDB66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ACCB-8E5E-4743-B829-FEC219933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2819520" cy="3353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elect and limit the subjec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Determine the purposes of the speec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Analyze the audience and the occas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Gather dat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Outline the materia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Organize and develop the speec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Plan visual aid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Practice alo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8 STEPS IN PREPARING A SPEE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TERMINING YOUR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ral 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cted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enterta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ea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infor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ersua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eement-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185760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peaker" descr=""/>
          <p:cNvPicPr/>
          <p:nvPr/>
        </p:nvPicPr>
        <p:blipFill>
          <a:blip r:embed="rId1"/>
          <a:srcRect l="0" t="0" r="38855" b="0"/>
          <a:stretch/>
        </p:blipFill>
        <p:spPr>
          <a:xfrm>
            <a:off x="5105520" y="1905120"/>
            <a:ext cx="371772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ORGANIZATION OF A SPEE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YS TO CAPTURE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sonal reference or gr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esting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 to the place or occa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ought provoking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YS TO CAPTURE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matized f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using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cere expressions of pl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 to special interests of the aud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21:33:48Z</dcterms:created>
  <dc:creator>DND</dc:creator>
  <dc:description/>
  <dc:language>en-US</dc:language>
  <cp:lastModifiedBy>DND</cp:lastModifiedBy>
  <cp:lastPrinted>1999-01-07T12:33:12Z</cp:lastPrinted>
  <dcterms:modified xsi:type="dcterms:W3CDTF">1999-01-07T12:35:24Z</dcterms:modified>
  <cp:revision>5</cp:revision>
  <dc:subject/>
  <dc:title> -Select and limit the subject  -Determine the purposes of the speech  -Analyze the audience and the occasion  -Gather data  -Outline the material  -Organize and develop the speech  -Plan visual aids  -Practice aloud</dc:title>
</cp:coreProperties>
</file>