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0BC8-FD17-49CC-B27F-AEA433DE0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82A6-1C39-499A-AF2E-F2541ECD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6273-6818-4F81-9E80-1089ED340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A6F0-BE4C-4BB7-A020-7AE5F2ECF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7D15-C7C1-48F1-9DC1-DA73C96D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390E-0ABF-48D6-A71A-26337629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0771-99A1-428F-AFA1-A34F0F11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FB03-E601-40D8-B672-1B9427F7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4EEB-061A-427B-BE7F-9A59C0D2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F76C-E49D-4F6C-9DD0-5BED615D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312F-F164-4BA6-A119-B656AB3C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C33F-1EC5-4E6C-9CF5-E35CE80F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EC51-9F23-4A9D-8113-91A7E3855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rill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5399280" cy="673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3:20:56Z</dcterms:created>
  <dc:creator>DND</dc:creator>
  <dc:description/>
  <dc:language>en-US</dc:language>
  <cp:lastModifiedBy>DND</cp:lastModifiedBy>
  <cp:lastPrinted>1999-01-07T20:06:04Z</cp:lastPrinted>
  <dcterms:modified xsi:type="dcterms:W3CDTF">1999-01-07T20:06:08Z</dcterms:modified>
  <cp:revision>2</cp:revision>
  <dc:subject/>
  <dc:title>No Slide Title</dc:title>
</cp:coreProperties>
</file>