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169-F291-4FDB-BA69-C537043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C75-D96E-4846-A903-293E17A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BB6-ADA3-44CC-9F77-3EC7C020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C05-0565-48FD-BABE-2E4BD7AC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D62-1FB5-4A54-8AFB-D9FE1E7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916-52F1-4F69-ABA9-344BB217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79B-D1FF-453C-BD62-0FBF3A2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134-AE1F-41D4-B951-B7B5E8C7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115-7F31-4149-BFFE-76B286D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E1B-BA7C-4E74-A8FB-75F24EA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53E-2665-4D6B-931C-0BCD04D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FC3-3B18-4EBE-810A-557F0B1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DFFD-9C3A-4931-84A6-4D55A68C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oulli’s Principle states that the total energy in a system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uid system has energy in the form of speed an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peed increases, pressure decreases and if speed decreases, pressure incr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0720" y="152280"/>
            <a:ext cx="50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ern" descr=""/>
          <p:cNvPicPr/>
          <p:nvPr/>
        </p:nvPicPr>
        <p:blipFill>
          <a:blip r:embed="rId1"/>
          <a:stretch/>
        </p:blipFill>
        <p:spPr>
          <a:xfrm>
            <a:off x="3733920" y="4800600"/>
            <a:ext cx="165420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4952880"/>
            <a:ext cx="1295280" cy="655920"/>
          </a:xfrm>
          <a:prstGeom prst="wedgeRoundRectCallout">
            <a:avLst>
              <a:gd name="adj1" fmla="val -86763"/>
              <a:gd name="adj2" fmla="val 72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otal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a system rem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ant . 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irfoil5" descr=""/>
          <p:cNvPicPr/>
          <p:nvPr/>
        </p:nvPicPr>
        <p:blipFill>
          <a:blip r:embed="rId1"/>
          <a:stretch/>
        </p:blipFill>
        <p:spPr>
          <a:xfrm>
            <a:off x="662040" y="2700360"/>
            <a:ext cx="7818480" cy="179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8480" y="3160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 Airfoil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320" y="152280"/>
            <a:ext cx="37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aking" descr=""/>
          <p:cNvPicPr/>
          <p:nvPr/>
        </p:nvPicPr>
        <p:blipFill>
          <a:blip r:embed="rId1"/>
          <a:stretch/>
        </p:blipFill>
        <p:spPr>
          <a:xfrm>
            <a:off x="2303640" y="838080"/>
            <a:ext cx="453672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29320" y="15228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king 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7728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18:56Z</dcterms:created>
  <dc:creator>RC Air Cadets</dc:creator>
  <dc:description/>
  <dc:language>en-US</dc:language>
  <cp:lastModifiedBy>dnd</cp:lastModifiedBy>
  <cp:lastPrinted>1999-02-23T20:02:30Z</cp:lastPrinted>
  <dcterms:modified xsi:type="dcterms:W3CDTF">1999-03-24T13:03:27Z</dcterms:modified>
  <cp:revision>8</cp:revision>
  <dc:subject/>
  <dc:title>Bernoulli’s Principle</dc:title>
</cp:coreProperties>
</file>