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81C3-E8F8-43AC-AC66-E36F1E77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488-7614-4D49-AAF8-20AAE9E8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5A7-32A6-4CFF-95FC-047AE737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6708-8894-4DBB-B904-61FF6BD4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8449-18C8-418F-A8D1-21ABB73C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876-FCA4-48FB-8493-2C12CD4A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4BD1-79BE-4F24-B28E-11140A00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B37-00B5-409B-98CD-A736DD66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BDB8-DFE7-41DF-A737-FFCB1D87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309-4B6D-4C8B-892D-3C48BB3C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DD9-8BD3-4D28-8EBA-2873D0C8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BCC-3FE2-4CBF-926D-FBB503FB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2F95-4322-47BD-8B27-AADFAE7A3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oilet" descr=""/>
          <p:cNvPicPr/>
          <p:nvPr/>
        </p:nvPicPr>
        <p:blipFill>
          <a:blip r:embed="rId1"/>
          <a:srcRect l="24341" t="27920" r="55050" b="47195"/>
          <a:stretch/>
        </p:blipFill>
        <p:spPr>
          <a:xfrm>
            <a:off x="6172200" y="4251240"/>
            <a:ext cx="2193840" cy="2079720"/>
          </a:xfrm>
          <a:prstGeom prst="rect">
            <a:avLst/>
          </a:prstGeom>
          <a:ln w="0">
            <a:noFill/>
          </a:ln>
        </p:spPr>
      </p:pic>
      <p:pic>
        <p:nvPicPr>
          <p:cNvPr id="42" name="seal" descr=""/>
          <p:cNvPicPr/>
          <p:nvPr/>
        </p:nvPicPr>
        <p:blipFill>
          <a:blip r:embed="rId2"/>
          <a:srcRect l="22675" t="21179" r="56619" b="54150"/>
          <a:stretch/>
        </p:blipFill>
        <p:spPr>
          <a:xfrm>
            <a:off x="6400800" y="2133720"/>
            <a:ext cx="2138400" cy="1912680"/>
          </a:xfrm>
          <a:prstGeom prst="rect">
            <a:avLst/>
          </a:prstGeom>
          <a:ln w="0">
            <a:noFill/>
          </a:ln>
        </p:spPr>
      </p:pic>
      <p:pic>
        <p:nvPicPr>
          <p:cNvPr id="43" name="fan" descr=""/>
          <p:cNvPicPr/>
          <p:nvPr/>
        </p:nvPicPr>
        <p:blipFill>
          <a:blip r:embed="rId3"/>
          <a:srcRect l="18175" t="14389" r="59924" b="56549"/>
          <a:stretch/>
        </p:blipFill>
        <p:spPr>
          <a:xfrm>
            <a:off x="457200" y="1154160"/>
            <a:ext cx="2203560" cy="2198520"/>
          </a:xfrm>
          <a:prstGeom prst="rect">
            <a:avLst/>
          </a:prstGeom>
          <a:ln w="0">
            <a:noFill/>
          </a:ln>
        </p:spPr>
      </p:pic>
      <p:pic>
        <p:nvPicPr>
          <p:cNvPr id="44" name="yield" descr=""/>
          <p:cNvPicPr/>
          <p:nvPr/>
        </p:nvPicPr>
        <p:blipFill>
          <a:blip r:embed="rId4"/>
          <a:srcRect l="21173" t="11793" r="58724" b="59948"/>
          <a:stretch/>
        </p:blipFill>
        <p:spPr>
          <a:xfrm>
            <a:off x="685800" y="3429000"/>
            <a:ext cx="1600200" cy="168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30960" y="152280"/>
            <a:ext cx="558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Functions of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440" y="1566720"/>
            <a:ext cx="23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Coo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800" y="2787480"/>
            <a:ext cx="23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Sea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440" y="4006800"/>
            <a:ext cx="30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Lubric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5160" y="530208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 Flu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152280"/>
            <a:ext cx="358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the fou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nctions of oi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6160" y="1720800"/>
            <a:ext cx="30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6160" y="3016080"/>
            <a:ext cx="30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16160" y="4235400"/>
            <a:ext cx="30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10400" y="5516640"/>
            <a:ext cx="31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20440" y="5508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450120" y="2454120"/>
            <a:ext cx="20844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6T12:56:01Z</dcterms:created>
  <dc:creator>RC Air Cadets</dc:creator>
  <dc:description/>
  <dc:language>en-US</dc:language>
  <cp:lastModifiedBy>dnd</cp:lastModifiedBy>
  <cp:lastPrinted>1999-02-26T17:18:48Z</cp:lastPrinted>
  <dcterms:modified xsi:type="dcterms:W3CDTF">1999-03-29T15:18:52Z</dcterms:modified>
  <cp:revision>11</cp:revision>
  <dc:subject/>
  <dc:title>No Slide Title</dc:title>
</cp:coreProperties>
</file>