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8DA-EFC6-4BEC-80C9-72F06F50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BBD-CB7A-4237-83F9-B42B813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F3C-1EAF-4D44-B74A-282DA42B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F46-8F52-466C-8C6E-2BC8B8E4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E30-2DF9-4314-9E3A-B73AF10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87F-F70E-41C1-ADFC-9E2ECBA3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6F9-8FA6-4EC2-B129-9CFB5F84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B9F-C3E0-4144-B41A-B3D51CA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CA6-4B08-44CC-8546-24600F4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5F1-2DDC-4750-9429-8F2B739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DC1-EEB5-4AFC-8DA0-4FD14CF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7E4-A77A-4E98-886A-AA17628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942-3C36-4318-831B-6F798D3E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838080"/>
            <a:ext cx="8229600" cy="9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QUALIFIED CAD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TRAINING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7920" y="2133720"/>
            <a:ext cx="52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0800" y="2819520"/>
            <a:ext cx="63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&amp; RECREATION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9360" y="3429000"/>
            <a:ext cx="34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411480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O TAKE TO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320840"/>
            <a:ext cx="292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m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 s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back 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t-shi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320840"/>
            <a:ext cx="4419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calling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medication (take prescri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hygien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/magaz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 polish/kiwi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pair eyeglasses if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22:38:12Z</cp:lastPrinted>
  <dcterms:modified xsi:type="dcterms:W3CDTF">1999-03-08T22:40:09Z</dcterms:modified>
  <cp:revision>26</cp:revision>
  <dc:subject/>
  <dc:title>No Slide Title</dc:title>
</cp:coreProperties>
</file>