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02-977A-44E2-A186-54BCD7B1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AF1-CDF4-49A3-9B6F-8DFB1E4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C02-EDBB-40C8-90C3-D059A88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641-110F-44FB-A31F-56D6FD9B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C7B-DE49-4CE1-BE98-DF8194BB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8BE-2A17-4E85-8484-7189395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38A-5F38-4BE9-89FB-A379FBDF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B90-30A8-4F4C-AEFB-551576A4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328-B0EC-452E-8D54-483A779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B58-2299-4630-87E9-4CE7C5C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8EC-959E-45F7-A1AF-2A72299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A9B-C7B1-4FA4-87B4-B44092E9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F173-05CF-4758-BD3D-B8E4DC4A4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400"/>
            <a:ext cx="41148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43800" y="304920"/>
          <a:ext cx="6634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663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962520" y="5181480"/>
          <a:ext cx="6858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181480"/>
                    <a:ext cx="685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002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038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3733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429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4038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43434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990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4952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3434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0384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6483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9907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858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295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00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6172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600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819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514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1905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80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85800"/>
            <a:ext cx="1523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Firmness of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bility to disreg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ar, and act wit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ve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When a leader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ally account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their action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3 w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514600"/>
            <a:ext cx="19206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Take time to s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  how thing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 d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To decide on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sue quickly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fectiv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A strong intere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ration or gr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ger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The state of  be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e and faithful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oted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Being reli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Fair and just in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behavior, free of dec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untruthfu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Feeling of self-reliance o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29T14:15:23Z</cp:lastPrinted>
  <dcterms:modified xsi:type="dcterms:W3CDTF">1999-02-19T14:51:49Z</dcterms:modified>
  <cp:revision>15</cp:revision>
  <dc:subject/>
  <dc:title>No Slide Title</dc:title>
</cp:coreProperties>
</file>