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3DB-DFF1-44D3-9F7F-20EE31B7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EB2-A985-45F8-ACFD-25025E60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416-1730-4724-8E47-CEBF43BD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6F2-B030-4954-A43E-893D7ACD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A8B-108D-492A-AB43-A0225627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6EA-6ACE-4A7E-8216-282A1D5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87C-4BEF-4481-9F5E-01F5B47E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2C7-25BA-4B4B-8E32-6DF5F25C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2E6-8F11-4804-8880-8E30C4CD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DD6-4CA4-4EF2-88FF-1D0C8F1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1AA-D286-4B2F-B072-EF18D13D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A33-653B-4579-AB8E-E85444C2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340C-11FA-416A-9B73-572A5788E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ERCI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762120" y="1600200"/>
            <a:ext cx="9906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deep breath before reading each of the following sentences. Then read the entire sentence out loud before taking another br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w let it work! Mischief, thou art afoot! Take thou what course thou wi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t your speech be with grace, seasoned salt, that ye may know how ye ought to answer every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Mohammedan moon rides at midnight in the moun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s of ancient Ara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08840" y="6613560"/>
            <a:ext cx="213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2 - Voice Exercises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4T12:59:21Z</dcterms:modified>
  <cp:revision>5</cp:revision>
  <dc:subject/>
  <dc:title>FACTORS THAT AFFECT THE HUMAN VOICE </dc:title>
</cp:coreProperties>
</file>