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D936-D59A-43DE-990D-E5FD8F10E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E368-34C4-48EB-A6A1-243CA36A4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3FFA-861D-4E91-8ADD-EF3BAD58B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B453-FEEA-49DD-9AA3-D824ACBF8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C929-E531-4959-805F-2C5718BC5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9689-5E92-47E2-B53B-69C0F3099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98F4-6F8B-40FF-A186-3818C1852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6B79-7260-4962-9E3E-F98FACE6D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D5EC-219A-44DC-8F0E-B963C6A41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EF76-C826-4D38-9FF4-60DE866FF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A60A-79BA-4CF8-96C8-4309D7A8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ACB3-B6E1-4CD1-9DCC-2FF0B5753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558B8-D861-4B0A-9398-7D7601C408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ADET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5105520" y="5638680"/>
            <a:ext cx="1334880" cy="30085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914400" y="6858000"/>
            <a:ext cx="677880" cy="13334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048120" y="7543800"/>
            <a:ext cx="914400" cy="888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1371600" y="2971800"/>
            <a:ext cx="1227240" cy="685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457200" y="4724280"/>
            <a:ext cx="1008000" cy="774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3962520" y="2666880"/>
            <a:ext cx="879480" cy="12304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5257800" y="4114800"/>
            <a:ext cx="1251000" cy="1057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2286000" y="4495680"/>
            <a:ext cx="2209680" cy="21114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1143000" y="609480"/>
            <a:ext cx="4343400" cy="141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Recycling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9640" y="8763120"/>
            <a:ext cx="1265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wo 404.04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19920" y="876312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09480" y="838080"/>
            <a:ext cx="5715000" cy="119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The Three R's</a:t>
            </a:r>
            <a:endParaRPr b="1" i="1" lang="en-US" sz="24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9640" y="8763120"/>
            <a:ext cx="1265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wo 404.04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19920" y="876312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676520" y="3200400"/>
            <a:ext cx="3581280" cy="3554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514600" y="25146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Redu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57150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Re-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800600" y="57913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Recy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04920" y="7402680"/>
            <a:ext cx="1066680" cy="10206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1676520" y="7404120"/>
            <a:ext cx="1066680" cy="1017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3048120" y="7402680"/>
            <a:ext cx="1066680" cy="1020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4343400" y="7402680"/>
            <a:ext cx="1066680" cy="10206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5638680" y="7402680"/>
            <a:ext cx="1067040" cy="102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5T20:18:40Z</dcterms:created>
  <dc:creator>dnd</dc:creator>
  <dc:description/>
  <dc:language>en-US</dc:language>
  <cp:lastModifiedBy>dnd</cp:lastModifiedBy>
  <cp:lastPrinted>1999-01-06T13:00:59Z</cp:lastPrinted>
  <dcterms:modified xsi:type="dcterms:W3CDTF">1999-02-22T14:18:13Z</dcterms:modified>
  <cp:revision>9</cp:revision>
  <dc:subject/>
  <dc:title>No Slide Title</dc:title>
</cp:coreProperties>
</file>