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EBC-9090-432A-B191-13B91486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598-0E58-4EE4-884F-1A93A000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BCF-DAA6-4121-9F57-A02F12CF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9F8-CF3A-4095-84FD-82EBC566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A1A-A20F-48E1-A5CC-5FBA81B6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43B-C776-49D2-A32C-CC10A550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8A2-A954-45BE-A318-F3D0B17C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99E-A1D9-444B-8565-E0186FA2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35E-E525-40F3-B926-A4377556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4E7-BD3A-4241-9F4E-0A3E6904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E5D-2B0C-4173-90D4-404DE686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2AB-1A3F-429F-8825-8FE822E7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47A8-B818-4CB7-B7DD-650126A15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S THAT AFFECT THE HUMAN VOI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peaker" descr=""/>
          <p:cNvPicPr/>
          <p:nvPr/>
        </p:nvPicPr>
        <p:blipFill>
          <a:blip r:embed="rId1"/>
          <a:srcRect l="0" t="0" r="35094" b="0"/>
          <a:stretch/>
        </p:blipFill>
        <p:spPr>
          <a:xfrm>
            <a:off x="4648320" y="1752480"/>
            <a:ext cx="394632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HAT THE CHARACTERISTICS OF THE HUMAN VOICE HELP YOU TO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EXPR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BREA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VOICE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53080" y="22860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HER H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COLOR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YOUR 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4267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3T20:07:44Z</dcterms:modified>
  <cp:revision>4</cp:revision>
  <dc:subject/>
  <dc:title>FACTORS THAT AFFECT THE HUMAN VOICE </dc:title>
</cp:coreProperties>
</file>