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1135-D929-4DA8-B0CE-FEFF28A6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28A-D745-4549-B1EF-F7F7D72B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58D5-537B-40B4-AC07-94C22A1C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91A4-9701-42FE-98A6-6376CC1F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447-D3DA-455D-B9E4-441FFCF1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E53-CB9D-457A-A6D6-286FA5EB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287-4CF0-49A4-A804-0998BDE4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271E-33E8-4D14-9A7B-41D1F47C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A149-2190-4757-9785-B74AC75D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00AB-E73D-410B-A65A-11D5EA84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17E9-C7AB-4FEA-8BFB-8F445C9D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FB5F-B2F8-42BC-9A29-9057F6EE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6EE4-768D-4627-BBB5-833F47ACD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54040" y="299880"/>
            <a:ext cx="623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ircraft Compon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lane" descr=""/>
          <p:cNvPicPr/>
          <p:nvPr/>
        </p:nvPicPr>
        <p:blipFill>
          <a:blip r:embed="rId1"/>
          <a:srcRect l="5486" t="0" r="16317" b="8496"/>
          <a:stretch/>
        </p:blipFill>
        <p:spPr>
          <a:xfrm>
            <a:off x="1108080" y="1600200"/>
            <a:ext cx="6435720" cy="4352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924680" y="487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9320" y="376200"/>
            <a:ext cx="386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Ailer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il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843600" cy="4707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876920" y="4419720"/>
            <a:ext cx="2666880" cy="167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73360" y="452520"/>
            <a:ext cx="383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Eleva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7732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ele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513920" cy="4676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76920" y="4648320"/>
            <a:ext cx="3657600" cy="167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96320" y="452520"/>
            <a:ext cx="35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Rud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6172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udder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615000" cy="4577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562720" y="4648320"/>
            <a:ext cx="213336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18:42:33Z</dcterms:created>
  <dc:creator>RC Air Cadets</dc:creator>
  <dc:description/>
  <dc:language>en-US</dc:language>
  <cp:lastModifiedBy>dnd</cp:lastModifiedBy>
  <cp:lastPrinted>1999-01-05T14:57:28Z</cp:lastPrinted>
  <dcterms:modified xsi:type="dcterms:W3CDTF">1999-03-22T15:37:22Z</dcterms:modified>
  <cp:revision>8</cp:revision>
  <dc:subject/>
  <dc:title>No Slide Title</dc:title>
</cp:coreProperties>
</file>