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9B1-5129-442F-86EC-B4E35AE7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C79-89EA-40D4-96F7-7985433B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9BD-32B2-4A4D-BD4C-CD497DA5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F41-2365-4B87-8925-781EB27C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511-A2AE-4A20-B2A3-13587641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C17-8091-4795-9025-26E9219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8EF-2F53-4455-9D35-44D66BD1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AFE-8CB8-4BDB-9746-7FC4EE7F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D8B-6F09-4991-BD03-D163DFA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1D8-055F-4F18-80B9-9B590BA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ABB-2263-4383-AA7D-548AED58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6EC-6DF7-4808-8B56-368956A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2AF7-0A4C-4B54-A866-3F76AC53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240" y="2422440"/>
            <a:ext cx="324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thorized in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3240" y="3184560"/>
            <a:ext cx="419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rovided by DND on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48480" y="4022640"/>
            <a:ext cx="445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parts should be mar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your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38040" y="1279440"/>
            <a:ext cx="469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ollows the military tra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wearing a uni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">
            <a:off x="2127600" y="228240"/>
            <a:ext cx="5011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Your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Un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I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23572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38280"/>
            <a:ext cx="74674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ing gu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ch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nte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in pocke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on the st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ing arm in a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of af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33520"/>
            <a:ext cx="7467480" cy="129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VER DO WHILE IN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ER BOOT LA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22:45:30Z</cp:lastPrinted>
  <dcterms:modified xsi:type="dcterms:W3CDTF">1999-03-17T19:41:40Z</dcterms:modified>
  <cp:revision>22</cp:revision>
  <dc:subject/>
  <dc:title>No Slide Title</dc:title>
</cp:coreProperties>
</file>