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359-237C-4F82-8EBE-8CF91E87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DB4-3F26-4CC5-9078-2E0553D8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F3A-D406-426F-B0A1-D5E3AB38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1FD-D684-4840-A0F5-828FCAF0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008-A257-4792-8D5C-C72D8D26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8E7-7D23-4FC0-8951-D2F5A566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09D-A206-4526-B6F4-20D1D48F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87D-C9E0-4AEF-92E0-AB9E8C11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405-239C-4C7F-B8C9-BCCA926B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B4C-451C-4DAD-91C1-EBD628E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2D6-16D9-4B30-917C-90DB97B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62A-6990-4CBF-8BE1-80431DB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049D-4D0C-4E71-ACD2-ACA81E2F9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nsibl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86728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4:00:36Z</dcterms:created>
  <dc:creator>dnd</dc:creator>
  <dc:description/>
  <dc:language>en-US</dc:language>
  <cp:lastModifiedBy>dnd</cp:lastModifiedBy>
  <cp:lastPrinted>1998-12-18T14:02:55Z</cp:lastPrinted>
  <dcterms:modified xsi:type="dcterms:W3CDTF">1998-12-18T14:05:25Z</dcterms:modified>
  <cp:revision>2</cp:revision>
  <dc:subject/>
  <dc:title>No Slide Title</dc:title>
</cp:coreProperties>
</file>