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911-D41F-48F3-B509-0DD03403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891-245A-4B8C-84F1-E462FD7A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291-CFC5-4CF1-8E2B-3807A717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DB2-1082-4EF4-A13C-9556D232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A9D-155D-4961-9F0D-7148ACBA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A972-24C2-4186-8ED5-9DB62ACC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8A9-7AC6-485E-B438-23119634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8F02-0D53-46CF-9A94-BAB51DFE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B0D-DA24-47DE-90A4-778BB536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9D6F-0E2B-42BB-9F83-8BDDC2D0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3B5-08C2-4284-B233-772B228D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E706-3309-4CE7-ADBF-B288E0AE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5786-511F-4F6D-8A1E-F308CFDC4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92120" y="228600"/>
            <a:ext cx="42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ircraft Ty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iplane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637320" cy="4576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7560" y="2590920"/>
            <a:ext cx="24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opl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259092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pl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960" y="5486400"/>
            <a:ext cx="18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pl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92120" y="304920"/>
            <a:ext cx="42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ircraft Ty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iwing" descr=""/>
          <p:cNvPicPr/>
          <p:nvPr/>
        </p:nvPicPr>
        <p:blipFill>
          <a:blip r:embed="rId1"/>
          <a:stretch/>
        </p:blipFill>
        <p:spPr>
          <a:xfrm>
            <a:off x="1252440" y="1366920"/>
            <a:ext cx="6637320" cy="4576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0200" y="274320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-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2200" y="271152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d-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2880" y="5149800"/>
            <a:ext cx="22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-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3:42:30Z</dcterms:created>
  <dc:creator>RC Air Cadets</dc:creator>
  <dc:description/>
  <dc:language>en-US</dc:language>
  <cp:lastModifiedBy>dnd</cp:lastModifiedBy>
  <cp:lastPrinted>1999-02-04T20:19:50Z</cp:lastPrinted>
  <dcterms:modified xsi:type="dcterms:W3CDTF">1999-03-22T14:19:00Z</dcterms:modified>
  <cp:revision>17</cp:revision>
  <dc:subject/>
  <dc:title>No Slide Title</dc:title>
</cp:coreProperties>
</file>