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D5DE-D730-4FAC-B5F2-78F6D198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765-CC89-4417-B0EB-C9B02635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CC0-0CE4-4305-BF8F-1D461A7F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4B72-2274-4FD8-B5CF-9C525329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666-4A60-412F-87D4-7EC1E2F6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FB0-0493-420B-9350-8443AB12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72F-85CF-4D54-933A-3E9D15BA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608-2EBC-414E-AD27-EB12351C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ADF-09D2-436C-B13C-FC70FBA8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DE7-19EE-43FF-8397-C690FDB0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35E-7901-40A7-A259-6F2CB84A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59B-1107-4CB8-B6B3-39382C24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BBA0-58CA-40C0-9329-A33828C5A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080" y="6611760"/>
            <a:ext cx="1102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vel One 419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1600200" cy="2133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62440" y="685800"/>
            <a:ext cx="5266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E REG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ne number of fire department or ra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ut FIRE, FIRE, FIRE, use a device to sound an al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et at designated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tion of fire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e drill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not leave fire unatt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erly extinguish the f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an evacua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irdgeIV" descr=""/>
          <p:cNvPicPr/>
          <p:nvPr/>
        </p:nvPicPr>
        <p:blipFill>
          <a:blip r:embed="rId1"/>
          <a:stretch/>
        </p:blipFill>
        <p:spPr>
          <a:xfrm>
            <a:off x="222120" y="533520"/>
            <a:ext cx="8921880" cy="6016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IVOUAC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7880" y="175248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SHING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666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INKING WATER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886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1640" y="579132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 P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1640" y="495288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5200" y="480060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SS 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5160" y="426708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5560" y="335268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45600" y="29718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T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8920" y="403848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FE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154720" y="54864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5000" y="601992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440" y="6608880"/>
            <a:ext cx="128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8520" y="403200"/>
            <a:ext cx="8744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Selecting a Bivouac Si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17800" y="1447920"/>
            <a:ext cx="5324760" cy="426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27000" y="2514600"/>
            <a:ext cx="48211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*  Well Drained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*  Safe Surrou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*  Free From Dangerous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*  Pur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1080" y="6611760"/>
            <a:ext cx="1102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vel One 419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200" y="6613560"/>
            <a:ext cx="63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28800" y="1752480"/>
            <a:ext cx="381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lways Look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6T15:43:22Z</dcterms:created>
  <dc:creator>Unregistered</dc:creator>
  <dc:description/>
  <dc:language>en-US</dc:language>
  <cp:lastModifiedBy>DND</cp:lastModifiedBy>
  <cp:lastPrinted>1999-02-19T15:22:28Z</cp:lastPrinted>
  <dcterms:modified xsi:type="dcterms:W3CDTF">1999-02-19T15:22:28Z</dcterms:modified>
  <cp:revision>13</cp:revision>
  <dc:subject/>
  <dc:title>No Slide Title</dc:title>
</cp:coreProperties>
</file>