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59E-F8FA-4965-B048-8DF15909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020-C49E-460D-8C26-7545C216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5D7-E77C-428A-B83D-19C94C18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637-AEF2-4449-9E30-1D1B3A00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2CD-6213-4914-9B8D-55C56B0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5FD-39CF-4E79-8B21-5E4CDC4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939-5772-4D20-9D60-DF5FBF63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6AB-38F0-4560-9538-DC6DBB1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EB7-7850-40DD-9DFB-B191455F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B65-5213-427B-9B22-029C9574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01B-FE1D-4252-935C-B167FF5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16E-524C-4819-ABED-A823A6BC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E298-D719-4A41-B1CE-BCE20E829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28195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er 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 Prop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id 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33520"/>
            <a:ext cx="72388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GE 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i3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840040" cy="4643640"/>
          </a:xfrm>
          <a:prstGeom prst="rect">
            <a:avLst/>
          </a:prstGeom>
          <a:ln w="0">
            <a:noFill/>
          </a:ln>
        </p:spPr>
      </p:pic>
      <p:pic>
        <p:nvPicPr>
          <p:cNvPr id="49" name="uni2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3951000" cy="525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1752480" y="2057040"/>
            <a:ext cx="1447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00200" y="2971800"/>
            <a:ext cx="1676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191120"/>
            <a:ext cx="13716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25780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75840" y="44956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010280" y="4800600"/>
            <a:ext cx="5335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80769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 PLACEMENT OF NAME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mage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33520"/>
            <a:ext cx="80769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FITNESS A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I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0000" cy="346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6T15:53:57Z</dcterms:created>
  <dc:creator>dnd</dc:creator>
  <dc:description/>
  <dc:language>en-US</dc:language>
  <cp:lastModifiedBy>dnd</cp:lastModifiedBy>
  <cp:lastPrinted>1999-01-22T21:59:52Z</cp:lastPrinted>
  <dcterms:modified xsi:type="dcterms:W3CDTF">1999-03-17T19:47:03Z</dcterms:modified>
  <cp:revision>5</cp:revision>
  <dc:subject/>
  <dc:title>No Slide Title</dc:title>
</cp:coreProperties>
</file>