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7AF9-FCC6-4ED3-80F9-92C750692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FC0D-C13E-4401-876D-35EA8DC92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9884-4B3E-4A4C-B91B-ABFF96891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5D55-FDDD-48DD-B96B-609ABFCB2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784D-F231-46A9-99BD-844EA45ED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5978-EF42-4F87-BB84-AF84B89D3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40A2-5C47-4371-987A-BE2D44993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F64E-2897-4D27-A62E-FF4DCA7BC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59D4-9909-48A1-8169-16453F2A3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2698-F5A6-445C-BF89-A97E9F42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B8E0-BFC9-4371-9178-B647D416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05CD-E51C-4FB2-B620-639388FA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95F62-94F8-43C2-A41D-C478DB22C4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rill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5399280" cy="673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8T13:20:56Z</dcterms:created>
  <dc:creator>DND</dc:creator>
  <dc:description/>
  <dc:language>en-US</dc:language>
  <cp:lastModifiedBy>DND</cp:lastModifiedBy>
  <cp:lastPrinted>1999-01-07T20:06:04Z</cp:lastPrinted>
  <dcterms:modified xsi:type="dcterms:W3CDTF">1999-01-07T20:06:08Z</dcterms:modified>
  <cp:revision>2</cp:revision>
  <dc:subject/>
  <dc:title>No Slide Title</dc:title>
</cp:coreProperties>
</file>