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137-C089-4924-AABA-973BC74E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DF3-0DCB-4B95-B259-818FBE84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4DD-1F10-4372-85AA-0A97920B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C18-5490-41C9-9A17-1713DC70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6AA-906B-4743-9EAB-E8FD1BF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9C4-FD54-4DFD-A402-0BFCD3B8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871-196E-435C-ADFC-F78B593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DA6-2342-485D-A6FE-600487B3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E8D-2B7D-4A33-A568-B04784A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520-8680-4C7A-B7A1-2BBE289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3C3-594C-44D4-815E-254C1CA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B5D-EBCF-4E7C-93CB-FC72686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6DA-FDBD-44AC-B705-CB8D275AA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33400" y="1523880"/>
          <a:ext cx="71056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523880"/>
                    <a:ext cx="7105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600200"/>
          <a:ext cx="5257800" cy="39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578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7T16:33:32Z</cp:lastPrinted>
  <dcterms:modified xsi:type="dcterms:W3CDTF">1999-03-17T20:05:32Z</dcterms:modified>
  <cp:revision>22</cp:revision>
  <dc:subject/>
  <dc:title>No Slide Title</dc:title>
</cp:coreProperties>
</file>