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729-96A9-46D8-B366-B0B2604A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A55-8B6A-42E9-8E1D-29573DDB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CCD-2E9F-408F-B0A7-E4D31F88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B27-8A5F-45E1-9656-E443DB6F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73F-1618-4293-B3B7-BBFF5F2E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113-2D93-40F4-B185-EBA13607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55E-F930-4264-B897-AFAE81E6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F33-866B-4C2B-B82F-121A6A6F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F92-B887-4B12-BDBA-70ABE7BB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D6E-C303-426D-A2F0-6A53C8EA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865-1B8C-493E-86E1-1B9DCD6C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235-29AE-4370-97A5-7F13E001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C133-47F1-43B7-8898-3CD5ABEA4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3049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irmanship is…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3440" y="1447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Skill in the handling and operating of airpla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ground and in the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LANE" descr=""/>
          <p:cNvPicPr/>
          <p:nvPr/>
        </p:nvPicPr>
        <p:blipFill>
          <a:blip r:embed="rId1"/>
          <a:stretch/>
        </p:blipFill>
        <p:spPr>
          <a:xfrm>
            <a:off x="5060880" y="5270400"/>
            <a:ext cx="3473640" cy="978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3440" y="2666880"/>
            <a:ext cx="760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A thorough knowledge of applicable theo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, regulations and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884760"/>
            <a:ext cx="906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An attitude or preparedness for any events that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, including pre-determined plans of actio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emergenc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34840" y="457200"/>
            <a:ext cx="595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intenance Rec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2360" y="1749600"/>
            <a:ext cx="4478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encoun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s of fuel and o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4495680"/>
          <a:ext cx="804600" cy="19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95680"/>
                    <a:ext cx="80460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28600" y="2590920"/>
          <a:ext cx="1889280" cy="98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90920"/>
                    <a:ext cx="188928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80880" y="762120"/>
          <a:ext cx="906480" cy="93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762120"/>
                    <a:ext cx="906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238880" y="4495680"/>
          <a:ext cx="1233720" cy="16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4495680"/>
                    <a:ext cx="123372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791320" y="1981080"/>
          <a:ext cx="1996920" cy="15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1320" y="1981080"/>
                    <a:ext cx="19969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7:04:28Z</dcterms:created>
  <dc:creator>RC Air Cadets</dc:creator>
  <dc:description/>
  <dc:language>en-US</dc:language>
  <cp:lastModifiedBy>dnd</cp:lastModifiedBy>
  <cp:lastPrinted>1999-01-07T18:01:46Z</cp:lastPrinted>
  <dcterms:modified xsi:type="dcterms:W3CDTF">1999-03-25T12:26:17Z</dcterms:modified>
  <cp:revision>8</cp:revision>
  <dc:subject/>
  <dc:title>No Slide Title</dc:title>
</cp:coreProperties>
</file>