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F52-AEF7-442E-A258-B6AC8BD8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EFB-022A-4574-895F-BCB65DFA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331-DC20-4B4F-9BA3-A9A551EF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E85-C6DD-4C3F-A4E4-DEACCF17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D20-E6DC-44AE-8A73-C76BCD49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9F3-E1D5-478A-BBA5-AB03AB64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055-0C8D-4B7B-9BF7-C31DDA0D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4B6-E2A9-400B-8A19-2675FCA1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C62-FF15-44FE-930A-FEAB5A0D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675-E8A1-499E-82AD-66D03D21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C55-918C-467C-A75B-ADEFFB8F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11B-977B-4232-945B-8B9BF0F7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3D59-F468-4BD3-98A6-69CD2962B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IM OF THE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im of the National Cadet Shooting Programme is to develop cadets’ interest in shooting while promoting the safe and proficient use of firearms for sport and recreational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AFETY CATCH &amp; SECURIT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fety catch is located just in front of the trigger, on the trigger gu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gage the safety catch, push towards the right; the safety catch is ON and the red cannot be see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ready to fire, push the safety catch towa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ft; safety catch is OFF and the red is now showin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ximum security, it is recommended that you keep the safety catch engaged until the moment you are ready to fire the first shot of a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AFE RIFLE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ot being handled on the range or in a training environment, the air rifle must be in a “safe status”. There are three instances where which have different procedures for “Safe Rifle Statu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Rifle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Firing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3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n Firing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DIVIDUAL SAFETY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firm that the rifle is sa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receiving a rifle or when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Safe Rifle Status” is uncert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AFETY REG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treat a rifle as if it is loa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point a rifle at 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point the rifle in a safe dir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fingers off the trigger unless ready to f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wear hearing prot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earing of safety glasses or shatterproof eyeglasses is mandatory when fi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the two questions on the left and then circle the letter of the correct safety regulation(s) on the r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take individual safety precau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do we perform individual safety precau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treat a rifle as if it were loa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ver shoot animals without a perm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ver point a rifle at any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point the rifle in a safe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ly use large caliber rif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 fingers off the trigger unless ready to fi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use hearing protect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wearing of safety glasses is mandatory when fi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19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048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733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0680" y="137160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1676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the two questions on the left and then circle the letter of the correct safety regulation(s) on the r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take individual safety precau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do we perform individual safety precau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treat a rifle as if it were loa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ver shoot animals without a perm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ver point a rifle at any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point the rifle in a safe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ly use large caliber rif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 fingers off the trigger unless ready to fi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use hearing protect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wearing of safety glasses is mandatory when fi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819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048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733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654516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 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7480" y="301608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onfirm that the rifle is saf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9840" y="4876920"/>
            <a:ext cx="29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on receiving a rifle or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fe rifle status” is uncert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9718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505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45720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2578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5791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00:28:18Z</dcterms:created>
  <dc:creator>DND</dc:creator>
  <dc:description/>
  <dc:language>en-US</dc:language>
  <cp:lastModifiedBy>dnd</cp:lastModifiedBy>
  <cp:lastPrinted>1999-03-24T13:56:42Z</cp:lastPrinted>
  <dcterms:modified xsi:type="dcterms:W3CDTF">1999-03-28T18:28:26Z</dcterms:modified>
  <cp:revision>7</cp:revision>
  <dc:subject/>
  <dc:title>AIM OF THE PROGRAMME</dc:title>
</cp:coreProperties>
</file>