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5BD-94A5-4586-A354-657B506F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428-CA9E-4A5F-B6DC-DEE3E7AD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B6B-9C7A-402E-A4E1-22664FF2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6DB-EEC0-4DE5-85A1-709B5A0E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2B4-294F-460D-AD21-A7FFA30C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8F1-802D-476F-9A44-F0CE93BF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D35-2FAF-44E2-8C1A-0839C889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DB6-08FA-4A08-B671-6E728B76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4BC-F12B-4319-8BAB-D30C9E29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6A6-F0EA-4353-B80D-CBF2477A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3F9-CFB1-4726-80E6-E794832D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165-599A-4715-95CD-61C942F2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3784-934A-4654-9C6E-5D9CAA74B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981080"/>
            <a:ext cx="4496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hysical fitness should be a part of everyone’s daily routine.  You will feel healthier and your self-confidence will improv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7794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23040" y="4013280"/>
            <a:ext cx="1311480" cy="20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0840" y="4049640"/>
            <a:ext cx="186516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03960" y="1830240"/>
            <a:ext cx="1559160" cy="137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905120"/>
            <a:ext cx="5715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OOL-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817640"/>
            <a:ext cx="2133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05720" y="1770120"/>
            <a:ext cx="1371600" cy="160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470240" cy="213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064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5280" y="3868560"/>
            <a:ext cx="1392120" cy="215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81532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aises Fit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otivates Cad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reates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nfirms Ability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repares Cadets for Advanced Cour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43600" y="1952640"/>
            <a:ext cx="2424240" cy="312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0" y="6553080"/>
            <a:ext cx="668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271680" cy="4605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5680" y="1447920"/>
            <a:ext cx="51055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NDURANC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ARTIAL CURL-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USH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NDING LONG J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50 m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UTTL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4T23:33:42Z</cp:lastPrinted>
  <dcterms:modified xsi:type="dcterms:W3CDTF">1998-12-18T21:41:20Z</dcterms:modified>
  <cp:revision>22</cp:revision>
  <dc:subject/>
  <dc:title>No Slide Title</dc:title>
</cp:coreProperties>
</file>