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A9F-119D-4C55-B577-010EBDC3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CA2-B3E3-42E8-BBAC-45AFD24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C18-C28D-4974-AA61-934F384D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6B9-6209-466E-9329-7C88AA9B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455-6DCB-4698-8BFB-C341099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D0F-D59F-4EE7-B434-68FE5423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DB8-6F17-40E4-B6CA-D0FD638D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20D-AAE4-4F17-8AF6-3D0FD67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5FE-97DB-41F0-B89B-A380C51A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4F8-7B0C-46A4-BC6A-40EE4D7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723-E9B4-42A6-8BDD-E2BD8F7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EE7-BC64-4C19-B3FC-5FFB008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E59D-8865-4C54-AB7F-0019F18E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4040" y="299880"/>
            <a:ext cx="62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lane" descr=""/>
          <p:cNvPicPr/>
          <p:nvPr/>
        </p:nvPicPr>
        <p:blipFill>
          <a:blip r:embed="rId1"/>
          <a:srcRect l="5486" t="0" r="16317" b="8496"/>
          <a:stretch/>
        </p:blipFill>
        <p:spPr>
          <a:xfrm>
            <a:off x="1108080" y="1600200"/>
            <a:ext cx="6435720" cy="4352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40800" y="53352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anding G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HORD" descr=""/>
          <p:cNvPicPr/>
          <p:nvPr/>
        </p:nvPicPr>
        <p:blipFill>
          <a:blip r:embed="rId1"/>
          <a:srcRect l="20742" t="0" r="0" b="0"/>
          <a:stretch/>
        </p:blipFill>
        <p:spPr>
          <a:xfrm>
            <a:off x="4954680" y="2514600"/>
            <a:ext cx="3884400" cy="18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02520" y="41148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-dra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ricycle" descr=""/>
          <p:cNvPicPr/>
          <p:nvPr/>
        </p:nvPicPr>
        <p:blipFill>
          <a:blip r:embed="rId2"/>
          <a:srcRect l="0" t="14134" r="0" b="29330"/>
          <a:stretch/>
        </p:blipFill>
        <p:spPr>
          <a:xfrm>
            <a:off x="380880" y="2590920"/>
            <a:ext cx="37483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200" y="41148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ycle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7240" y="299880"/>
            <a:ext cx="488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mpenn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le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89400" cy="509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16440" y="1065240"/>
            <a:ext cx="333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ileron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ckp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usela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ud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Fla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Leading Ed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Stabiliz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Main Whe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Trailing Ed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Engine Nacel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 Main Pla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Nose Whe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Elev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680" y="30492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aircraft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correct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est%20Plane" descr=""/>
          <p:cNvPicPr/>
          <p:nvPr/>
        </p:nvPicPr>
        <p:blipFill>
          <a:blip r:embed="rId1"/>
          <a:srcRect l="9097" t="0" r="18773" b="8496"/>
          <a:stretch/>
        </p:blipFill>
        <p:spPr>
          <a:xfrm>
            <a:off x="0" y="1981080"/>
            <a:ext cx="5475240" cy="40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4920" y="225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232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343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44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48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428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3360" y="278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164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2972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8000" y="2362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6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8840" y="4114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848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69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08160" y="380880"/>
            <a:ext cx="32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42:33Z</dcterms:created>
  <dc:creator>RC Air Cadets</dc:creator>
  <dc:description/>
  <dc:language>en-US</dc:language>
  <cp:lastModifiedBy>dnd</cp:lastModifiedBy>
  <cp:lastPrinted>1999-01-05T14:57:28Z</cp:lastPrinted>
  <dcterms:modified xsi:type="dcterms:W3CDTF">1999-03-22T15:53:10Z</dcterms:modified>
  <cp:revision>9</cp:revision>
  <dc:subject/>
  <dc:title>No Slide Title</dc:title>
</cp:coreProperties>
</file>