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8C1-3342-43F0-A678-BD61BE09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739-589C-4935-BA1F-51ACD275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FED-458F-4D66-B5D5-0401E5C7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3A1-4BCE-4675-8222-D1E43792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7FD-A68C-4A15-A28F-9877783C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3F2-2A1E-497A-9B45-7386DC9A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823-AA72-451D-9E93-EAC969B2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BE3-DC85-4982-BEA1-779D99F8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E60-7291-46A2-BA8B-9A1558E5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EDA-F89B-420E-9B8C-6D56351C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CB5-989E-479F-961C-7175280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9AB-6321-4114-BA29-A608F00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70C-39BE-4917-804D-1E56A577A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SE1" descr=""/>
          <p:cNvPicPr/>
          <p:nvPr/>
        </p:nvPicPr>
        <p:blipFill>
          <a:blip r:embed="rId1"/>
          <a:srcRect l="5588" t="0" r="5025" b="15300"/>
          <a:stretch/>
        </p:blipFill>
        <p:spPr>
          <a:xfrm>
            <a:off x="990720" y="220968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6200" y="378000"/>
            <a:ext cx="533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uss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RUS2" descr=""/>
          <p:cNvPicPr/>
          <p:nvPr/>
        </p:nvPicPr>
        <p:blipFill>
          <a:blip r:embed="rId1"/>
          <a:srcRect l="6252" t="0" r="2754" b="20489"/>
          <a:stretch/>
        </p:blipFill>
        <p:spPr>
          <a:xfrm>
            <a:off x="609480" y="1981080"/>
            <a:ext cx="7925040" cy="3900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720" y="378000"/>
            <a:ext cx="69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nocoque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4:58:10Z</dcterms:created>
  <dc:creator>RC Air Cadets</dc:creator>
  <dc:description/>
  <dc:language>en-US</dc:language>
  <cp:lastModifiedBy>dnd</cp:lastModifiedBy>
  <dcterms:modified xsi:type="dcterms:W3CDTF">1999-03-22T15:38:32Z</dcterms:modified>
  <cp:revision>3</cp:revision>
  <dc:subject/>
  <dc:title>No Slide Title</dc:title>
</cp:coreProperties>
</file>