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077-EBA5-445E-947C-7C1049D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9DF-F7B2-449D-9061-7DF009F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DF0-66D7-4F30-BE6B-082272D1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B43-03BC-4B5C-98A1-987413D7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5EA-609A-493D-9CE6-D664C34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605-BD57-4BD1-8F32-D304F48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16B-1379-468B-87B7-E1FACA68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CEB-ABD0-41AF-852C-2C75414F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4AC-B0AC-47B0-960F-E9DC2095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4CC-3BC3-4445-9B59-3D76405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65D-158E-4D67-905E-1D9E1FE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B29-A813-4198-AC18-081FDD2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84CD-C4A8-4806-BE37-AFF6ECD0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8-12-18T14:05:39Z</dcterms:modified>
  <cp:revision>2</cp:revision>
  <dc:subject/>
  <dc:title>No Slide Title</dc:title>
</cp:coreProperties>
</file>