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B0FE-24C1-4BC3-AB81-D3C435F7C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54C2-529D-4C43-A1F5-AD96B5DFA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2649-93DC-445A-821C-D8E2114FB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4043-6CEB-44D6-9701-CB7576BE9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4129-491A-4DFF-A38D-20288741A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C01C-3AF0-4648-B2AF-2FF1D45E3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FDAD-D408-40C8-938C-5A1F39F45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12A8-E439-4892-BAC0-26140EB3E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B2C7-DDD2-44FF-8173-CBB7863A5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0D06-FC3E-433F-A7DA-A8921D1CD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1DBF-C830-4D35-A888-D12C4FBF4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6F40-DE8D-42CF-BE02-10101DEFD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075A2-14A5-43AD-AE9D-49E9A3FFE8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762120"/>
            <a:ext cx="468648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0" bIns="4608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aettenschweiler"/>
              </a:rPr>
              <a:t>  </a:t>
            </a:r>
            <a:r>
              <a:rPr b="1" lang="en-US" sz="7200" spc="-1" strike="noStrike" u="sng">
                <a:solidFill>
                  <a:srgbClr val="000000"/>
                </a:solidFill>
                <a:uFillTx/>
                <a:latin typeface="Haettenschweiler"/>
              </a:rPr>
              <a:t>GOOD HYGIEN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05120" y="228600"/>
            <a:ext cx="327636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Haettenschweiler"/>
              </a:rPr>
              <a:t>rules to…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2438280"/>
            <a:ext cx="6096240" cy="77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Take a shower or bath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    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every other da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Wash dirty clothes once a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    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week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Trim finger and toe nail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    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regularl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7240" y="8737560"/>
            <a:ext cx="674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6800" y="8726400"/>
            <a:ext cx="1268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One 406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5880" y="8737560"/>
            <a:ext cx="704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066680" y="762120"/>
            <a:ext cx="468648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0" bIns="4608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aettenschweiler"/>
              </a:rPr>
              <a:t>  </a:t>
            </a:r>
            <a:r>
              <a:rPr b="1" lang="en-US" sz="7200" spc="-1" strike="noStrike" u="sng">
                <a:solidFill>
                  <a:srgbClr val="000000"/>
                </a:solidFill>
                <a:uFillTx/>
                <a:latin typeface="Haettenschweiler"/>
              </a:rPr>
              <a:t>GOOD HYGIEN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228600"/>
            <a:ext cx="327636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Haettenschweiler"/>
              </a:rPr>
              <a:t>rules to…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438280"/>
            <a:ext cx="6096240" cy="63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Use foot powder after each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    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bat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Brush and floss your teeth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    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after each me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Shave if requir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240" y="8737560"/>
            <a:ext cx="674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6800" y="8726400"/>
            <a:ext cx="1268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One 406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5880" y="8737560"/>
            <a:ext cx="704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680" y="8763120"/>
            <a:ext cx="1268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One 406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19920" y="8763120"/>
            <a:ext cx="68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cfg5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6400800" cy="845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3-05T18:06:34Z</cp:lastPrinted>
  <dcterms:modified xsi:type="dcterms:W3CDTF">1999-03-08T14:07:51Z</dcterms:modified>
  <cp:revision>10</cp:revision>
  <dc:subject/>
  <dc:title>No Slide Title</dc:title>
</cp:coreProperties>
</file>