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F31-719B-4AB4-B3D5-E7B228AF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FA1-5A09-4FA8-8F19-E96C8C74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447-7B98-48A1-8351-0BBD5242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A24-F381-4D2C-BF80-FDDD2701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850-0DCA-4547-8774-EE6A62DB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9EA-5568-4B3F-BA6B-683DB405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3B5-C62A-4A78-B0A9-C8BF5D3D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928-DC17-4B51-A535-E396F2AA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A3E-3364-44CE-9B1F-E1266DE8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8B0-9FC2-40EC-89C5-A884EAA4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55C-FD8B-4972-9C28-6677184F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1CF-5B74-4291-B02F-D217559F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4372-B695-490A-B3D7-AE493AD20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640" y="654516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640" y="654516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640" y="654516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40" y="654516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14:38:14Z</cp:lastPrinted>
  <dcterms:modified xsi:type="dcterms:W3CDTF">1999-03-08T14:38:16Z</dcterms:modified>
  <cp:revision>17</cp:revision>
  <dc:subject/>
  <dc:title>No Slide Title</dc:title>
</cp:coreProperties>
</file>