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92202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71E3-B1AC-4F1C-9AA2-F07F7B217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D5D8-C6BB-4BC1-9B3C-6A0708A2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4ABE-7AE8-4F41-866C-E0EB51522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96ED-DEC3-471B-91D1-618E3B7AF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DEDF-0F48-4298-BE1C-6A3D8C58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5048-D44D-4833-A8F9-A2DCDD73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C9C7-EBA8-484A-B988-35F08EB0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E8E6-623C-4DE6-8443-DC05B661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715B-2C68-44D4-AC1D-3E8E80FD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364A-1A9F-45AA-95B5-0C844C5C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D421-4E98-459E-B16C-C4614D6A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B245-812C-4C04-BD38-5FB91B20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C2E1-7C9D-447B-BD26-A5A132386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O%20403%20Cover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72200" cy="84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8-12-18T00:28:34Z</cp:lastPrinted>
  <dcterms:modified xsi:type="dcterms:W3CDTF">1999-03-16T19:50:32Z</dcterms:modified>
  <cp:revision>21</cp:revision>
  <dc:subject/>
  <dc:title>No Slide Title</dc:title>
</cp:coreProperties>
</file>