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F75A-4C76-473A-AB5D-986ACF2B5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857B-F226-49AF-867F-A5A762F71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70E5-82E6-47B3-B307-C4E79CA5A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3828-73DF-46FE-BF77-D4AFCF93D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F331-E1D1-49E2-AEE0-3983B8D18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92A0-B168-4F01-BB1D-757693114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B332-5778-410E-A049-8F4E324D3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2CEE-2ABD-4532-8ECF-EDCB9214E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298A-A55F-4049-B87B-082D806DE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0EC7-C002-49DF-919A-739DE5E7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BF52-998D-4582-BC4F-3AFC81F0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C0BC-F17F-47A1-9927-B27FF5C2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F183B-E1C2-4101-8959-BC7B413603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WHAT SHOULD I WEAR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64832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ool vs. Cot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Jackets vs. Swea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ootw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eavy Glo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952880" y="2209680"/>
            <a:ext cx="3764160" cy="3535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9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tique Olv (W1)"/>
              </a:rPr>
              <a:t>TAKING CARE OF YOUR CLOT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95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Keep clothing cl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Keep it d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end tears in clothing as soon as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ange your s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intain your boo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Keep dirt and grease off your p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9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105520" y="1981080"/>
            <a:ext cx="36576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ANDLING YOUR KNIF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Keep it shar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rry in a stout shea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osition towards the back of your 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ttach to your be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eck for sharp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eck hand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9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867280" y="2286000"/>
            <a:ext cx="32767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8T12:53:00Z</dcterms:created>
  <dc:creator>DND</dc:creator>
  <dc:description/>
  <dc:language>en-US</dc:language>
  <cp:lastModifiedBy>DND</cp:lastModifiedBy>
  <cp:lastPrinted>1999-02-19T14:52:50Z</cp:lastPrinted>
  <dcterms:modified xsi:type="dcterms:W3CDTF">1999-02-19T14:53:16Z</dcterms:modified>
  <cp:revision>4</cp:revision>
  <dc:subject/>
  <dc:title>WHAT SHOULD I WEAR?</dc:title>
</cp:coreProperties>
</file>