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1CC-BAE0-456E-9635-8FF23812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2EB-F3C0-4591-B1E4-746CB515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156-9DEC-470E-B84F-EFF837D1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174-7CAF-41C3-B186-E75B842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107-9E51-44F0-BB2A-8BF7A934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F7B-FD50-4306-B79C-80645FD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EDF-E3A4-40F3-AAB6-0D3338DF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071-8A84-48B5-A5FE-33CE71B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140-5259-4DDD-8F5C-115A493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9F0-4399-4E79-AB19-5CE2615D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125-6AE3-447B-93EF-0BDC0ED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C00-3786-405F-93FC-D66435B1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3FB-B12A-4004-8D03-F1AD7A541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s%20pics" descr=""/>
          <p:cNvPicPr/>
          <p:nvPr/>
        </p:nvPicPr>
        <p:blipFill>
          <a:blip r:embed="rId1"/>
          <a:stretch/>
        </p:blipFill>
        <p:spPr>
          <a:xfrm>
            <a:off x="703440" y="355680"/>
            <a:ext cx="7737120" cy="61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0"/>
            <a:ext cx="106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477120"/>
            <a:ext cx="769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6868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231560" y="321012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8487000" y="6059880"/>
            <a:ext cx="106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575560" y="4093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268520" y="5886360"/>
            <a:ext cx="83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Y BE GIV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238280" y="5785200"/>
            <a:ext cx="119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ceas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084480" y="27471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op firing immediately and put the safety catch in the ON (no r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si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816440" y="5698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resum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510360" y="2803320"/>
            <a:ext cx="357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t the safety in the OFF (red) position and continue the pract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20:06:12Z</dcterms:created>
  <dc:creator>DND</dc:creator>
  <dc:description/>
  <dc:language>en-US</dc:language>
  <cp:lastModifiedBy>dnd</cp:lastModifiedBy>
  <cp:lastPrinted>1999-03-23T20:20:50Z</cp:lastPrinted>
  <dcterms:modified xsi:type="dcterms:W3CDTF">1999-03-28T19:13:52Z</dcterms:modified>
  <cp:revision>4</cp:revision>
  <dc:subject/>
  <dc:title>No Slide Title</dc:title>
</cp:coreProperties>
</file>