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4B1-86D0-4E21-B47A-8F96392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202-1A21-4312-BB4E-2DEBD08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830-2CE6-4A1B-A0F3-ADD6F45F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DE1-366A-48DD-B83B-E16B1E9F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585-8EAD-493A-BE03-6F28E57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545-A8DF-45C4-8735-FCD516A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49F-8F99-4C87-9A7D-3F8BE83A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F91-ADFA-4264-A871-A585F616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CD2-5E15-40A0-82D9-657C5AE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69F-F79B-44CE-BEE3-AC68E51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E08-49E9-401C-8AD2-06A5A74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309-5D45-444B-B0A5-4BAE40BE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8137-89BE-454F-8960-F088F9F2A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unway2" descr=""/>
          <p:cNvPicPr/>
          <p:nvPr/>
        </p:nvPicPr>
        <p:blipFill>
          <a:blip r:embed="rId1"/>
          <a:srcRect l="11856" t="-63" r="8157" b="0"/>
          <a:stretch/>
        </p:blipFill>
        <p:spPr>
          <a:xfrm>
            <a:off x="0" y="228600"/>
            <a:ext cx="2971800" cy="2278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49600" y="30312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eronautical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3048120"/>
            <a:ext cx="805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ny area of land 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ed for the arrival, departure, movem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of aircraft and includes all buildings, instal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quipmen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489276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licensed aerodrome, meaning it has me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safety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71800" y="228600"/>
          <a:ext cx="10503000" cy="18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28600"/>
                    <a:ext cx="105030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3840" y="60948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Main Components of an Aero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pron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72600" cy="462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0960" y="604800"/>
            <a:ext cx="65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ndsock and Wind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ock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99240" cy="45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7800" y="4572000"/>
            <a:ext cx="236232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17840" y="1219320"/>
            <a:ext cx="415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t is used by aircraft to move betw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pron and the runw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t is used for passengers arriving and depart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ell as baggage and cargo hand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t is where primary flight instruction is giv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It is used to indicate the wind dir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pproximate wind sp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t ensures the safe and efficient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aircraft at an aerodro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It is the area on which aircraft land and take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It is a licensed aerodrome, meeting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requiremen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It is used for the storage, prot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maintenance of aircraf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It is used for the loading and un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assengers and car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05120"/>
            <a:ext cx="1924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Run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ntrol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axi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p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Han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Winds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aw a line from the aerodr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to the statement wh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04280" y="4302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55:52Z</dcterms:created>
  <dc:creator>RC Air Cadets</dc:creator>
  <dc:description/>
  <dc:language>en-US</dc:language>
  <cp:lastModifiedBy>dnd</cp:lastModifiedBy>
  <cp:lastPrinted>1999-01-08T14:58:11Z</cp:lastPrinted>
  <dcterms:modified xsi:type="dcterms:W3CDTF">1999-03-22T14:37:13Z</dcterms:modified>
  <cp:revision>9</cp:revision>
  <dc:subject/>
  <dc:title>No Slide Title</dc:title>
</cp:coreProperties>
</file>