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3D5-B028-4BA1-8A97-2C396DB6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1CE-C71A-4589-ACFD-E96BAF2A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1E6-7A95-4531-83A8-168F20D9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12E-4BD4-4EC4-B48E-F4EA89F5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828-AFD5-4688-945D-EDC933C3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A89-5413-49E4-AFE0-B55801DC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06F-28E3-42EC-80E9-FA14908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74C-E1AB-4202-948D-5A1013A6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D1C-249D-421F-9F42-6D654535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197-A929-4B23-92CF-1EB5D94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1EA-11D9-4204-995A-93FBD18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478-3352-46BF-B0F1-FB4444A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22FB-FC20-4E85-A062-F8A8EC3CA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762120"/>
          <a:ext cx="7621560" cy="86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762120"/>
                    <a:ext cx="76215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838080" y="1752480"/>
          <a:ext cx="5639040" cy="221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5639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1828800"/>
          <a:ext cx="5553000" cy="6477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828800"/>
                    <a:ext cx="5553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8:33Z</dcterms:modified>
  <cp:revision>6</cp:revision>
  <dc:subject/>
  <dc:title>No Slide Title</dc:title>
</cp:coreProperties>
</file>