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B1B-19DD-4747-8E73-946AA429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415-0E4B-4830-9C4A-3206BCC7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F39-D93F-4EFA-9446-9051551A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9EB-1BAB-42BD-8A0D-7CD800C1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BF5C-01CF-4D1F-A7CA-15947931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66B-487E-420D-BBDA-EF205BEF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8AB-4415-4AFF-A8E7-0788DAB0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35B-7047-4DDB-AEB9-E5C56C2D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43B-9CED-4491-8E40-E0341D9D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315-856E-4B19-9DB3-DB9A9E7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DC9-13FC-4432-884F-D9CF9763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1AF-C2C9-4D7B-B811-7BB68506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CDA0-E0A4-4AA3-BCC2-02B6BD822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EVEN ENEMIES OF SURVI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U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REDOM &amp; LONL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676520"/>
            <a:ext cx="7162920" cy="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ear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541008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2:30:52Z</dcterms:created>
  <dc:creator>DND</dc:creator>
  <dc:description/>
  <dc:language>en-US</dc:language>
  <cp:lastModifiedBy>DND</cp:lastModifiedBy>
  <cp:lastPrinted>1998-12-18T15:16:00Z</cp:lastPrinted>
  <dcterms:modified xsi:type="dcterms:W3CDTF">1999-01-04T17:52:40Z</dcterms:modified>
  <cp:revision>4</cp:revision>
  <dc:subject/>
  <dc:title>SEVEN ENEMIES OF SURVIVAL</dc:title>
</cp:coreProperties>
</file>