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A7D1-0757-4065-AA42-2CE121DE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B535-D51F-4AA7-8C1E-5555CFA3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9215-12E8-4F8D-A956-FAC56D1B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4E1D-B2B9-4563-B43D-CFA3B2F2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5368-4CD1-4E9D-A4E7-5C741CC2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0E21-1D12-4152-AFE5-34C4946C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98E0-204A-4605-A2EC-E333A58A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0816-D61D-45BE-850D-B208D74A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6BAB-6702-4125-984A-9173BADB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0B42-BFF5-4AB8-8633-2BB211EF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528E-B813-46AA-89BC-A9D4E7E0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5B84-43DA-40F0-9470-D1FE712D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D229-8E0D-4E56-BD45-408EF4B1E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EFORE A SPEE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 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095880"/>
            <a:ext cx="84582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17220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 One  410.0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848720" y="6172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24480" y="1676520"/>
            <a:ext cx="12956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VOICE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i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nun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095880"/>
            <a:ext cx="84582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617220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 One  410.0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848720" y="6172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14800" y="1828800"/>
            <a:ext cx="3352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EN PRESE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distracting manneris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 Natur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shift your feet or juggle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an objective at the beginning of your spe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the body of your speech purpos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ize your speech at 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6095880"/>
            <a:ext cx="84582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17220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 One  410.0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48720" y="6172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19920" y="1676520"/>
            <a:ext cx="257472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7T20:41:42Z</dcterms:created>
  <dc:creator>DND</dc:creator>
  <dc:description/>
  <dc:language>en-US</dc:language>
  <cp:lastModifiedBy>DND</cp:lastModifiedBy>
  <cp:lastPrinted>1999-01-27T12:58:18Z</cp:lastPrinted>
  <dcterms:modified xsi:type="dcterms:W3CDTF">1999-03-28T16:50:22Z</dcterms:modified>
  <cp:revision>10</cp:revision>
  <dc:subject/>
  <dc:title>BEFORE A SPEECH</dc:title>
</cp:coreProperties>
</file>