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82D-8894-4501-AAA7-4BBAB7F8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FDF-F0A1-4DA5-A0B1-E47142D2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547-CA5E-48D1-A710-66F23098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3A2-5971-4129-8518-283EB1EC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2EB-4BAA-4E54-BFBA-0218FF20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A2F-3486-404B-AA7A-D1968916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D36-A5D7-4C52-93DE-CBD36BE1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AB1-FCBD-4FCD-AD0E-EAA921B7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250-877C-4A79-8BAB-A943F8E1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1C3-B3ED-4263-A6F8-A3E200A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27D-164C-4A2C-B783-BA06DD45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401-291E-47A9-A6FA-9CDDFD71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7E81-FD42-42EC-AC52-C003029DD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98480" y="685800"/>
          <a:ext cx="4992840" cy="784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685800"/>
                    <a:ext cx="499284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236600" y="1828800"/>
          <a:ext cx="5621400" cy="545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6600" y="1828800"/>
                    <a:ext cx="56214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486400" y="914400"/>
          <a:ext cx="6707160" cy="765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914400"/>
                    <a:ext cx="6707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4:28:12Z</dcterms:modified>
  <cp:revision>1</cp:revision>
  <dc:subject/>
  <dc:title>No Slide Title</dc:title>
</cp:coreProperties>
</file>