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5DA-89C4-4C7D-82E6-21CFD6C6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B18-9FEC-4BE2-BBDA-C9350C94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401-2CC4-427E-838B-A52AFBEC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5AC-16BE-43DC-ACA0-B8B902F8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8F5-02E1-494B-942F-B681E5AE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BD1-BBC6-4273-86B1-A2EDDE6F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D59-B89B-4807-BDD6-74FEA7DC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8DD-FE37-4BCB-BA93-8D537495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B2E-13A5-47BB-8F34-131182C6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B45-933B-4890-A111-D019FE5E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198-CF54-49D5-A351-1E42D555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031-8737-4B71-A901-82094E6C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F672-09C6-410F-9F78-311EBD909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586040" cy="2514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852280" y="4419720"/>
            <a:ext cx="3729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. George’s Cro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6596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05560" y="4419720"/>
            <a:ext cx="332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leur-de-li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96080" y="1812960"/>
            <a:ext cx="2112840" cy="106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02000" y="1911240"/>
            <a:ext cx="2001960" cy="99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2280" y="1917720"/>
            <a:ext cx="1974960" cy="984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395440" y="1836720"/>
            <a:ext cx="704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429000" y="4599000"/>
            <a:ext cx="2049480" cy="1033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5700600" y="1836720"/>
            <a:ext cx="704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751800" y="4594320"/>
            <a:ext cx="2081160" cy="1036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1355760"/>
            <a:ext cx="914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ion of the Crowns of England and Scotland (16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17680"/>
            <a:ext cx="914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volution of the Royal Union Fla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3228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. George’s Cr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03228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. Andrew’s Cr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ot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3032280"/>
            <a:ext cx="2665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st) Royal Union Fla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The United 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0" y="3946680"/>
            <a:ext cx="914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 of Union between Great Britain and Ireland (18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166680" y="4556160"/>
            <a:ext cx="2112840" cy="106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700600" y="4579920"/>
            <a:ext cx="704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71760" y="4503600"/>
            <a:ext cx="704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99360" y="5775480"/>
            <a:ext cx="274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nd) Royal Union Fla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The United 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775480"/>
            <a:ext cx="274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st) Royal Union Fla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The United 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5775480"/>
            <a:ext cx="236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. Patrick’s Cr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e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1301760"/>
            <a:ext cx="9129600" cy="234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962520"/>
            <a:ext cx="9129600" cy="257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789280"/>
            <a:ext cx="914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“First” Red Ensign (17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36800" y="763560"/>
            <a:ext cx="3614760" cy="181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60840" y="3735360"/>
            <a:ext cx="3614400" cy="181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0" y="576108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anadian Red Ensign (1924-19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25760" y="1330200"/>
            <a:ext cx="6151320" cy="300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662120" y="4662360"/>
            <a:ext cx="5958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anadian Fla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0T20:05:40Z</dcterms:created>
  <dc:creator>Valued Customer</dc:creator>
  <dc:description/>
  <dc:language>en-US</dc:language>
  <cp:lastModifiedBy>dnd</cp:lastModifiedBy>
  <cp:lastPrinted>1999-01-08T19:44:57Z</cp:lastPrinted>
  <dcterms:modified xsi:type="dcterms:W3CDTF">1999-01-08T19:48:12Z</dcterms:modified>
  <cp:revision>10</cp:revision>
  <dc:subject/>
  <dc:title>No Slide Title</dc:title>
</cp:coreProperties>
</file>