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DF6-9CA4-4A28-80E0-722571C4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AB6-00BE-4A93-BFBB-17C3C44E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6FA-5094-4952-87C4-D98FEDD6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FD9-AD40-42BF-9C64-F7642A24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D02-D7D3-42EB-B3F3-956D1ECC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326-DC19-4938-A32A-8DD939A7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273-FC10-4ED3-A926-F5450112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CE8-4406-4D82-97DB-7FCF31C0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8F6-726C-4C5A-9EFF-A0509E6D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C06-38F0-453E-A247-C659FD45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2BF-B4A3-47F6-8955-DDFF1993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CBB-1A85-45EA-A4FA-ED51AB45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38E4-5D35-465F-9917-FCB156C6E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PRONE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rone" descr=""/>
          <p:cNvPicPr/>
          <p:nvPr/>
        </p:nvPicPr>
        <p:blipFill>
          <a:blip r:embed="rId1"/>
          <a:stretch/>
        </p:blipFill>
        <p:spPr>
          <a:xfrm>
            <a:off x="2003400" y="1447920"/>
            <a:ext cx="5137200" cy="480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I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nt 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r 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ht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ront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66724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rear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3200400" cy="1319040"/>
          </a:xfrm>
          <a:prstGeom prst="rect">
            <a:avLst/>
          </a:prstGeom>
          <a:ln w="0">
            <a:noFill/>
          </a:ln>
        </p:spPr>
      </p:pic>
      <p:pic>
        <p:nvPicPr>
          <p:cNvPr id="50" name="sight" descr=""/>
          <p:cNvPicPr/>
          <p:nvPr/>
        </p:nvPicPr>
        <p:blipFill>
          <a:blip r:embed="rId3"/>
          <a:stretch/>
        </p:blipFill>
        <p:spPr>
          <a:xfrm>
            <a:off x="5257800" y="4800600"/>
            <a:ext cx="2690640" cy="152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81480" y="4572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18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3276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800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6324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1880" y="4800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1447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1523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81480" y="3048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REA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reathing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RIGGER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rigger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508640" cy="483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LLOW-THR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through is essential to shooting perfect sh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through is defined as the act of remaining in position for a few seconds after the pellets depar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5 principles of marksmanship by circling the letter which corresponds with the correct principle of marksma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-hal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rtsma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ger contr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-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880" y="1676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2057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5 principles of marksmanship by circling the letter which corresponds with the correct principle of marksma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-hal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rtsma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ger contr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-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5146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809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38098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24382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44197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01:34:12Z</dcterms:created>
  <dc:creator>DND</dc:creator>
  <dc:description/>
  <dc:language>en-US</dc:language>
  <cp:lastModifiedBy>dnd</cp:lastModifiedBy>
  <cp:lastPrinted>1999-03-24T01:55:36Z</cp:lastPrinted>
  <dcterms:modified xsi:type="dcterms:W3CDTF">1999-03-28T19:06:43Z</dcterms:modified>
  <cp:revision>7</cp:revision>
  <dc:subject/>
  <dc:title>THE PRONE POSITION</dc:title>
</cp:coreProperties>
</file>