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D148-802A-4DD1-BA38-F0807A55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FAB8-0AA4-4C97-BC3D-A9A1F2D9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46B2-59FE-410B-AD7D-7F486FEA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2F99-CF2D-48C1-BB66-A0D718CD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8F88-7D64-471C-8892-525831D3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EC4-E0B8-4BB5-B739-51009008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07C7-53CA-4E5D-B99E-CFC6C028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574A-2597-465E-95A3-2D8EB834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7DE-09E1-4514-B39C-0A300393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E6D9-47CF-4812-A6EF-EF6D8E4D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F45C-BC44-4E5E-9045-7FC06939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83C-85AC-456C-8C84-2280FE63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7ED6-5B26-4F79-9706-13CCD9F37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1720" y="380880"/>
            <a:ext cx="552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erodrome Ligh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IGHTS" descr=""/>
          <p:cNvPicPr/>
          <p:nvPr/>
        </p:nvPicPr>
        <p:blipFill>
          <a:blip r:embed="rId1"/>
          <a:srcRect l="0" t="0" r="0" b="4440"/>
          <a:stretch/>
        </p:blipFill>
        <p:spPr>
          <a:xfrm>
            <a:off x="1219320" y="1676520"/>
            <a:ext cx="6710400" cy="4647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2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90320" y="452520"/>
            <a:ext cx="637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ll Weather Marking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rway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666200" cy="457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2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9120" y="351000"/>
            <a:ext cx="866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anger/Unserviceable Mark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anger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902720" cy="4576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2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533520" y="4467240"/>
          <a:ext cx="9144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46724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33520" y="3594240"/>
            <a:ext cx="914400" cy="901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8320" y="3809880"/>
            <a:ext cx="63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2000" y="204840"/>
            <a:ext cx="537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ch the aerodrome marking with th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ement which best describes 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0440" y="1563840"/>
            <a:ext cx="4900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It identifies the center of the runw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They indicate the beginning of a runw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It identifies dangerous and unservice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They indicate the end of a runway and m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mark dangerous areas or obstru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It indicates magnetic direction and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ed to the nearest 10 degree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 They mark the beginning and 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runwa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 They run down each side of a runw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33520" y="5638680"/>
            <a:ext cx="914400" cy="901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6520" y="58672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533520" y="1231920"/>
            <a:ext cx="914400" cy="901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8320" y="1447920"/>
            <a:ext cx="63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74520" y="39625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74520" y="53341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74520" y="160020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4520" y="472428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74520" y="228600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74520" y="30481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74520" y="60199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33720"/>
            <a:ext cx="67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Univers (W1)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80880" y="5356080"/>
          <a:ext cx="1219320" cy="130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5356080"/>
                    <a:ext cx="121932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83560" y="28195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819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2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04280" y="46656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2819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1T12:16:14Z</dcterms:created>
  <dc:creator>RC Air Cadets</dc:creator>
  <dc:description/>
  <dc:language>en-US</dc:language>
  <cp:lastModifiedBy>dnd</cp:lastModifiedBy>
  <cp:lastPrinted>1999-01-11T12:35:27Z</cp:lastPrinted>
  <dcterms:modified xsi:type="dcterms:W3CDTF">1999-03-22T14:38:59Z</dcterms:modified>
  <cp:revision>4</cp:revision>
  <dc:subject/>
  <dc:title>No Slide Title</dc:title>
</cp:coreProperties>
</file>