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A8F-AC5E-4A26-AA55-1AD5ABA3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D3C9-C8F9-4DFD-AA32-7C6FCD38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89D-9629-451D-9E3C-E2A93E00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E97-EE14-4611-AED6-45151586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6DE-C79A-44EF-8AA6-DA4D0A20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E93-9333-4C45-93D2-FE088AF5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C40-F89E-473D-8A4A-C4B3088F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EEF-A52F-47ED-8B47-B7751043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F6E-8E5E-4344-9E0D-CC18AAF7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9038-2B76-4109-A9C8-C542F6BD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0EA8-EF77-422B-AF63-DCA9E8F6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8379-F589-4CDD-9E6A-0825C787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71D1-A2A8-45BB-AF21-0A51EB617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24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15328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264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2640" y="2438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14300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294920" y="2590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44756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8564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5640" y="2438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8600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437920" y="2590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42864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28640" y="2438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2900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580920" y="2590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73356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243828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95680" y="2438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95320" y="2438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49568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648320" y="2590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80024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18112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18112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438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3581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4572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 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143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HREE RANKS OF A SQU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6324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5328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142640" y="1905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1426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143000" y="1905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94920" y="2057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44756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85640" y="1905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856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86000" y="1905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7920" y="2057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59056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28640" y="1905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4286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429000" y="1905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580920" y="2057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73356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190512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95680" y="1905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49532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495680" y="1905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48320" y="20574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8002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2900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181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19051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MA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6094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ION OF THE RIGHT MAR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895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2819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819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771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28564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285640" y="1752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28600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43792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590560" y="2057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76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65724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57240" y="1752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65760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80952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962160" y="2057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10516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412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105520" y="1752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10552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2574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410080" y="2057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175248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47676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477120" y="1752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47712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6290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781680" y="2057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578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4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771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294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816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ILE OF CAD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2895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339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1600200"/>
            <a:ext cx="9144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80988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5410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0" y="2895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2819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2819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28564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285640" y="1752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28600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43792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590560" y="2057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23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65724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657240" y="1752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65760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80952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62160" y="2057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0552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10516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412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105520" y="1752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10552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2574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410080" y="2057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77120" y="175248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647676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0572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477120" y="1752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47712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6290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781680" y="2057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78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4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100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771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05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16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RANKS WITH A BLANK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98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625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48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RANKS WITH A BLANK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0552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3733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05520" y="3733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77120" y="3733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2856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1460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285640" y="2133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28600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43792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59056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6572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657240" y="2133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65760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80952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96216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0552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10516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412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105520" y="21337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10552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25744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5410080" y="2438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77120" y="213372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47676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0572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477120" y="21337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47712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62904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781680" y="2438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ALS BETWEEN CAD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3372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5268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5268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7692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372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3372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7692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4852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4852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4852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33360" y="2514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6232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133720" y="2514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13372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285640" y="2666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438280" y="2819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62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382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46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5268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352680" y="2514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352320" y="25146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35268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505320" y="26668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657240" y="2819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7692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876560" y="2514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0552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876920" y="2514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87692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028840" y="2666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181480" y="2819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248520" y="251460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248160" y="2514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7712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6248520" y="2514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624852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400440" y="2666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553080" y="2819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5268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290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576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7692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9528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292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814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4852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3244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771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530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294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1523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80988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487692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9880" y="220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4343400" y="198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Drill1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971800" cy="2362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73392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8148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3733920" y="35049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6720" y="4495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ace in Quick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339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8006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15:23:34Z</dcterms:created>
  <dc:creator>DND</dc:creator>
  <dc:description/>
  <dc:language>en-US</dc:language>
  <cp:lastModifiedBy>dnd</cp:lastModifiedBy>
  <cp:lastPrinted>1999-01-22T12:24:12Z</cp:lastPrinted>
  <dcterms:modified xsi:type="dcterms:W3CDTF">1999-03-24T18:33:39Z</dcterms:modified>
  <cp:revision>13</cp:revision>
  <dc:subject/>
  <dc:title>No Slide Title</dc:title>
</cp:coreProperties>
</file>