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D8A-1E78-49D7-B325-7B3BC99D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FC8-6DB5-4B3D-BA60-BDBA6CDC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A14-5C77-4F3B-9BD7-11E3E84A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8D7-C046-452A-9904-BCFAD5D5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2A3-859E-41B6-8173-A09542C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17C-063F-4BBD-A8D1-7C76C2D0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A40-0FF4-4280-87C5-CED67AD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D37-47E3-45B9-8A3E-51CB47B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3E3-0A87-4195-BA9E-D78EE5B3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3B7-2A36-4091-BC76-2E2418CF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8B6-479A-4CD6-8BB5-CA06EC5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EB5-40EA-4E55-9609-2B589021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D908-7997-41F1-A398-773B41670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ir Cadet Mo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Ser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Adv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276720" cy="293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ims of the Air Cad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velop in youth the attributes of good citizenship and leadership.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mote physic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imulate an interest in the air element of the Canadian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1739880"/>
            <a:ext cx="3504960" cy="347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ath of Loya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, (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ll Nam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reby affirm my loyalty to her Majesty the Queen,her heirs and success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05520" y="1739880"/>
            <a:ext cx="3504960" cy="347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16:50:50Z</cp:lastPrinted>
  <dcterms:modified xsi:type="dcterms:W3CDTF">1999-01-11T16:52:26Z</dcterms:modified>
  <cp:revision>19</cp:revision>
  <dc:subject/>
  <dc:title>No Slide Title</dc:title>
</cp:coreProperties>
</file>