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AFE-5F88-4998-B634-0A374B66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0B7-1477-42AE-90F0-FF62A079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00C-39CB-4B4A-A4F7-96CBE3E8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4A01-C3F3-421E-ADB5-62FFE698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A02-7F88-4E80-A9C3-E341A9C0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974-A402-4B8D-BDE2-280AF565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E46-9F32-45CC-BD16-1098D811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DB0-4366-4A45-89DF-C2380745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639-89AD-4426-AF92-30249B59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997-672A-487F-8E6E-5D3D4D66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2D4-570B-4BCD-8259-D3D5B090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424-3292-4C8A-8451-8913FE6E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909E-CF4D-4D1C-ABCE-02B334344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80" y="646128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 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6480" y="609480"/>
            <a:ext cx="461556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IGIN OF SAL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7240" y="1746360"/>
          <a:ext cx="7885440" cy="52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46360"/>
                    <a:ext cx="7885440" cy="52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0" y="646128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 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66200" y="533520"/>
            <a:ext cx="6884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S THAT ARE SAL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1680" y="1447920"/>
            <a:ext cx="72637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Queen and members of the Royal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or General of Ca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ime Minister of Ca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issioned Officers of the Canadian Fo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Heads of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ster and Associate ministers of National Def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eutenant -Governors of the provinces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issioned Officers of foreign defence fo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9:22:59Z</dcterms:created>
  <dc:creator>dnd</dc:creator>
  <dc:description/>
  <dc:language>en-US</dc:language>
  <cp:lastModifiedBy>dnd</cp:lastModifiedBy>
  <cp:lastPrinted>1999-01-22T17:41:59Z</cp:lastPrinted>
  <dcterms:modified xsi:type="dcterms:W3CDTF">1999-01-22T18:26:56Z</dcterms:modified>
  <cp:revision>3</cp:revision>
  <dc:subject/>
  <dc:title>No Slide Title</dc:title>
</cp:coreProperties>
</file>