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F548-A9DE-4CAD-AABE-78DF95484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1891-C18C-4C31-9F17-C818676F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B2DA-5C20-4589-A6A1-F58331D8E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6D53-0AF7-49AE-AF0F-A46C3F8F6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00C6-CBB8-4E27-8BF6-71A30449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5FB8-F221-426E-8355-11B15557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2954-5246-4CD1-AF6F-54E5BA2C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6309-4078-41BE-95F0-B8B78796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AA8F-6AD6-4617-957D-19FD2777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D706-1741-421C-BEF4-A7A699A3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F698-33E5-45B1-90ED-61F84F5C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FD28-36E6-41FD-9DD0-208B963C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654E-2958-47FD-88D4-52F1DE1CF6B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Definition of a Citiz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be a citizen means that you were born in and/or have become a resident of a particular country”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CANADA" descr=""/>
          <p:cNvPicPr/>
          <p:nvPr/>
        </p:nvPicPr>
        <p:blipFill>
          <a:blip r:embed="rId1"/>
          <a:stretch/>
        </p:blipFill>
        <p:spPr>
          <a:xfrm>
            <a:off x="2971800" y="3809880"/>
            <a:ext cx="3056040" cy="2232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64440" y="6545160"/>
            <a:ext cx="1197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One 404.01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Definition of Democra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democracy is a government by the people.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38280" y="3200400"/>
            <a:ext cx="4267440" cy="2971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64440" y="6545160"/>
            <a:ext cx="1197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One 404.01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The Oath of Citizenshi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, (name in full), swear/affirm that I will be faithful and bear true allegiance to Her Majesty Queen Elizabeth the Second, Queen of Canada, Her Heirs and Successors, according to law and that I will faithfully observe the laws of Canada, and fulfil my duties as a Canadian citizen.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64440" y="6545160"/>
            <a:ext cx="1197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One 404.01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Responsibilities of a citiz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be loyal to Canada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be loyal to the Queen of Canada and her representative, the Governor General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respect private and public property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care for Canada’s heritage; a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support Canada’s ideal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"/>
          <p:cNvSpPr/>
          <p:nvPr/>
        </p:nvSpPr>
        <p:spPr>
          <a:xfrm>
            <a:off x="64440" y="6545160"/>
            <a:ext cx="1197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One 404.01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Things you could do in your commun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ada D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embrance D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ttle of Brita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olunteer at a hospital or seniors ho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lect food for the food ba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olunteer at a Red Cross blood Donor clin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t in on a municipal council meeting and/or tour your provincial legislatu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sit a local museu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ean up a local park or playgrou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64440" y="6545160"/>
            <a:ext cx="1197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One 404.01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5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4T18:11:52Z</dcterms:created>
  <dc:creator>dnd</dc:creator>
  <dc:description/>
  <dc:language>en-US</dc:language>
  <cp:lastModifiedBy>dnd</cp:lastModifiedBy>
  <cp:lastPrinted>1998-12-14T19:54:08Z</cp:lastPrinted>
  <dcterms:modified xsi:type="dcterms:W3CDTF">1998-12-18T12:13:56Z</dcterms:modified>
  <cp:revision>10</cp:revision>
  <dc:subject/>
  <dc:title>Definition of a Citizen</dc:title>
</cp:coreProperties>
</file>