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317-1101-4C50-A56C-DA4F1B8D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1C2-552B-4BD0-AB4A-C5541DF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A9A-6328-4C1E-A961-DD5C56FB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B55-C5A4-49FF-95EA-388071B6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65E-0E9F-4D7A-BE42-4514E544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360-F804-4465-8912-B50B0121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7CC-FFDF-43B0-A9D7-8A38201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A79-6EC9-4B1A-A7F0-CDF03EDF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9BD-26A9-4234-94C4-61485F9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831-88D1-442B-A250-46257B66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48E-715E-4997-953B-A12EF7D9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A6C-0010-449A-9EB1-41079B88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509E-6587-4FB1-BDC7-B75F9AA87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MTH and COM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E U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4840" y="3048120"/>
            <a:ext cx="390528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YING THE F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41640" y="6545160"/>
            <a:ext cx="73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4419720" cy="3353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heap of t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larger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big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 stick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-use spent ma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e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 it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ght at the bot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780000">
            <a:off x="69840" y="1036080"/>
            <a:ext cx="4102200" cy="26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Impact"/>
              </a:rPr>
              <a:t>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Impact"/>
              </a:rPr>
              <a:t>Fire Tri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2362320"/>
            <a:ext cx="4673880" cy="3530520"/>
          </a:xfrm>
          <a:prstGeom prst="triangle">
            <a:avLst>
              <a:gd name="adj" fmla="val 49995"/>
            </a:avLst>
          </a:prstGeom>
          <a:solidFill>
            <a:srgbClr val="ff0033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42064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62520" y="1447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7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6960" y="380988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MPFIRE DO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ip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 your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d your f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attend your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per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181480" y="1981080"/>
          <a:ext cx="3962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981080"/>
                    <a:ext cx="3962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MPFIRE DON’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28600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hibit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o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t or porous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146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E STARTING METH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es/L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nt and 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el Wool and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ing 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otech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3530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743200" cy="2895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YPES OF TI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tton fuz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per fuz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rbent fuz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y, dead g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wdery dro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andoned n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ch b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e need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3392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EATHER ST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467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THER SOURCES OF FU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imal dro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00384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STRUCTION OF A FIRE S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build under bra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 cooking fires in trenches or ho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wi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422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7T15:30:26Z</dcterms:created>
  <dc:creator>DND</dc:creator>
  <dc:description/>
  <dc:language>en-US</dc:language>
  <cp:lastModifiedBy>DND</cp:lastModifiedBy>
  <cp:lastPrinted>1999-02-19T15:11:30Z</cp:lastPrinted>
  <dcterms:modified xsi:type="dcterms:W3CDTF">1999-02-19T15:14:06Z</dcterms:modified>
  <cp:revision>11</cp:revision>
  <dc:subject/>
  <dc:title>No Slide Title</dc:title>
</cp:coreProperties>
</file>