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EC5-A82D-4E89-BE7F-4F2739B2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F8C-7656-44D8-A858-0037E74A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3458-0480-4D53-B80E-5A93936A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3DA-E8DD-48AE-8F8C-C23C9E29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9E4-5208-4964-B3D3-F697E0AB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60F1-B75C-4D86-B1DB-C2C91E94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053-8061-461E-A902-4115AAA5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765B-8DAD-4A1B-8401-3083E9DB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FD52-D386-43C8-88F1-86B62403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771-6477-4224-836F-B6AB58A1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12D-BC04-4E16-A4A1-A7F88CDC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3BAF-4B9D-45BC-8A27-1C672ACD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BF70-BD87-498E-9E4C-70C324B7E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ffect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480060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35:04Z</dcterms:created>
  <dc:creator>DND</dc:creator>
  <dc:description/>
  <dc:language>en-US</dc:language>
  <cp:lastModifiedBy>DND</cp:lastModifiedBy>
  <cp:lastPrinted>1998-12-18T13:39:01Z</cp:lastPrinted>
  <dcterms:modified xsi:type="dcterms:W3CDTF">1998-12-18T13:40:08Z</dcterms:modified>
  <cp:revision>1</cp:revision>
  <dc:subject/>
  <dc:title>No Slide Title</dc:title>
</cp:coreProperties>
</file>