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20B-13F2-4E60-AFAC-5220D5C4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23E-ABD6-4A57-B720-972ABE7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54E-86C1-4AB3-A926-EAFF4754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4EF-AAE7-4FFD-9F02-54165F1C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6FD-3221-4FBC-8D6A-17BE814D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F18-614C-4073-8B54-AE9866C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CB1-25B1-4CC1-8DEC-F3D8628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2F3-BF0D-4609-AA1E-40F39A1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F74-E0E4-4433-BFA6-BDA063A3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2E6-12E2-4AFE-AA08-30B50CF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EA9-A9CB-4772-942C-9433814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CB6-941D-481C-930B-E173E2C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E03A-1B20-4414-A6A3-B34DE49B9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828800"/>
            <a:ext cx="6705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ire Preven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asic Fire fighting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mergency phon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re evacu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re escape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60962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20920" y="1120680"/>
            <a:ext cx="445104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ING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 CONTAI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5400" y="2514600"/>
            <a:ext cx="417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Bound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dr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and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ss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9520" y="2360520"/>
          <a:ext cx="80182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360520"/>
                    <a:ext cx="80182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1T22:02:49Z</cp:lastPrinted>
  <dcterms:modified xsi:type="dcterms:W3CDTF">1999-02-15T21:39:18Z</dcterms:modified>
  <cp:revision>22</cp:revision>
  <dc:subject/>
  <dc:title>No Slide Title</dc:title>
</cp:coreProperties>
</file>