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474B-6751-43E0-9190-2CE4F786B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B494-9C0F-4793-A815-72909F46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8B6F-8FB5-4DE0-8385-290C9BC3E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3365-F78B-444C-803A-26C883912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AEAF-933D-4981-9C25-28991ED0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B886-9584-4BAC-BEC2-2D04F9F7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46D2-840F-401F-9701-7F5BCE2C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B0EF-593B-41E3-AC78-7570C74D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D82F-1086-41D0-A13C-972FF9BC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E465-69E6-4598-91EB-FD6E9128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C9A4-56B6-4BDB-9E2A-5F409C6F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885D-6E76-43B0-BC73-60D8518F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44C4-19A6-40D5-BB4D-076DD16F7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410080" y="838080"/>
          <a:ext cx="7088400" cy="80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838080"/>
                    <a:ext cx="708840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1066680" y="1752480"/>
          <a:ext cx="5494320" cy="6739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752480"/>
                    <a:ext cx="5494320" cy="673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600200" y="2057400"/>
          <a:ext cx="4343400" cy="57546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2057400"/>
                    <a:ext cx="4343400" cy="57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14:23:26Z</dcterms:created>
  <dc:creator>Jamie Richards</dc:creator>
  <dc:description/>
  <dc:language>en-US</dc:language>
  <cp:lastModifiedBy>Jamie Richards</cp:lastModifiedBy>
  <dcterms:modified xsi:type="dcterms:W3CDTF">1999-04-23T18:07:29Z</dcterms:modified>
  <cp:revision>6</cp:revision>
  <dc:subject/>
  <dc:title>No Slide Title</dc:title>
</cp:coreProperties>
</file>