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EEC-D1A0-4CB3-B7AF-3B235FAF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A61-2655-43E8-B23C-408FB193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6775-5116-4F59-BC2D-D9DBD7D6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86E-0DC6-44DB-AB07-09B26132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E58-8AB5-4BFB-BD95-BF277E30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8826-707F-4B0A-A881-8A174571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596-B848-4B6E-9FB1-03869BCD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9E9-15B6-490A-AF8C-6EC91400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921-E470-4467-9F37-0D184809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31D-A18B-4350-A88E-7564059A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7614-2C42-4EF0-89FB-B5D058DB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16E-5E6E-451D-B2FD-C43AD273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A85D-EF8C-4D01-85D5-E8A03157A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ARTS OF THE DAISY 853C AIR RIF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tt Plate and Spac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mall of the Butt (Pistol Gri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est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ARTS OF THE DAISY 853C AIR RIF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ling Bracket (Handsto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gger Gu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fety C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mp L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ARTS OF THE DAISY 853C AIR RIF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gh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zz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rrel with Barrel We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ARTS OF THE DAISY 853C AIR RIF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ed Track (in Rear of Chamb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-Shot Pellet Cl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ngle Shot Adap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4T01:17:40Z</dcterms:created>
  <dc:creator>DND</dc:creator>
  <dc:description/>
  <dc:language>en-US</dc:language>
  <cp:lastModifiedBy>dnd</cp:lastModifiedBy>
  <cp:lastPrinted>1999-03-24T01:30:34Z</cp:lastPrinted>
  <dcterms:modified xsi:type="dcterms:W3CDTF">1999-03-28T18:45:36Z</dcterms:modified>
  <cp:revision>4</cp:revision>
  <dc:subject/>
  <dc:title>PARTS OF THE DAISY 853C AIR RIFLE</dc:title>
</cp:coreProperties>
</file>