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D94-8564-4DC6-A153-01BE2F95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E34-4549-43DC-9AA0-14DB8056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DB3-69FC-40E4-8FE8-FAB2747F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C23-B780-449B-9A32-A19EDBAC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C6E-8E04-4C3D-936A-034D64ED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C77-F0E4-4146-B6A5-C255B425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86C-47EA-4B7D-BE6B-EBB79DAC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FFA-F1E3-47AA-A30D-0D48D12E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ED9-9B0E-4037-A3E8-B008C9EF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DFB-C738-4790-9ECE-A8CE32C3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C03-967D-43A6-8536-03E1633B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858-C4B8-42A6-88FD-43E9D81C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154A-D71B-422D-8C79-F88E5B669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29200"/>
            <a:ext cx="3041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r Trim Hair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raight C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345744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74320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971800" y="1371600"/>
            <a:ext cx="335268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5181480"/>
            <a:ext cx="3041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r Trim Hair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572000"/>
            <a:ext cx="73152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191120"/>
            <a:ext cx="75438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350532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248520" y="457200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419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5 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380880"/>
            <a:ext cx="62481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MALE HAIRC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81880" cy="2904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51840" y="5029200"/>
            <a:ext cx="16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0760" y="5029200"/>
            <a:ext cx="182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led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91800" y="502920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ight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yle with B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609480"/>
            <a:ext cx="62485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FEMALE HAIR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543120" cy="3770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685800"/>
            <a:ext cx="73152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WEARING OF EAR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510516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ed in ear l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in each 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n by female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round in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re than 7mm(1/4 in) 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eepers may be worn if ears still healing afte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319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581280" cy="3025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14040" y="5486400"/>
            <a:ext cx="322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-in-hand k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20760" y="5486400"/>
            <a:ext cx="2454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sor k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523880"/>
            <a:ext cx="3962520" cy="365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523880"/>
            <a:ext cx="3962520" cy="365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TTING OF NECK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9-03-17T19:39:36Z</dcterms:modified>
  <cp:revision>20</cp:revision>
  <dc:subject/>
  <dc:title>No Slide Title</dc:title>
</cp:coreProperties>
</file>