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107-2178-4FEB-AD35-5C912EBE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21A-0674-428E-8435-B8F059BE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9F1-981D-4E69-9117-2291D293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0483-90FB-498C-8F02-FC4BC241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880-7670-404B-89DF-B1414500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78E-A597-4A53-9329-72FDFC76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AB7-32F3-42F2-A121-74A4BA37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B89-857B-4FDD-9420-624D204E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AA7-A97D-40E6-A071-EDAF073F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DB1-FA56-4CD4-BB73-4B3CCE6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460-ACCF-4715-AFC4-17A05A7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486-D0A8-4C6D-AE3F-52736CDE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A9FD-20D8-4FE5-9F34-13A855C2E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HQ PERFORMANC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320" y="1905120"/>
            <a:ext cx="524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Cadet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ize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ble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al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Spe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HQ PERFORMANC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59800" y="1676520"/>
            <a:ext cx="4900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nautical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o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les of 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fram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ul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ew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/Sho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5T19:48:43Z</cp:lastPrinted>
  <dcterms:modified xsi:type="dcterms:W3CDTF">1999-03-17T20:45:40Z</dcterms:modified>
  <cp:revision>28</cp:revision>
  <dc:subject/>
  <dc:title>No Slide Title</dc:title>
</cp:coreProperties>
</file>