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80B-2E75-4D33-B9B9-F84E2832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11F-6F43-4ACE-8834-3A8C3CF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38E-0CD3-433C-B5E4-FA60A5CF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27F-EF53-4434-8E1D-AAA47E4F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F32-F565-4803-8E49-313F7F5E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EB4-14AF-4D8C-A583-B81D069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145-C9DF-40A9-8794-72B8857D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537-BFD5-4DB5-B15F-2AF7524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B87-4A42-4E14-B5BE-DD1F0A64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EF0-9D8D-43FB-8435-8548310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043-706D-4260-82B2-B3CCC73B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1C9-8DD8-493A-A04C-01AB9229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EB9-CFDE-4C3F-BCEA-72FE8574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9400" y="6545160"/>
            <a:ext cx="149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2-17T20:15:57Z</cp:lastPrinted>
  <dcterms:modified xsi:type="dcterms:W3CDTF">1999-03-11T15:24:51Z</dcterms:modified>
  <cp:revision>19</cp:revision>
  <dc:subject/>
  <dc:title>No Slide Title</dc:title>
</cp:coreProperties>
</file>