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8A7-64B5-4D41-9B4B-A8586725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762-E656-4F21-8E0F-168DE985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0DF-70D7-4A77-A0A4-129C8909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EA9-45BD-4D31-983D-048D4BB1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8AD-E27C-4932-A8D2-C6244AB2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778-D58D-4FE7-BE59-089D31C9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337-2BA7-4555-90F7-342588BB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B5B-D62E-40FE-ACDD-7BA1DD8F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199-C049-4B65-8143-7F393914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925-A179-46D9-A3C6-D6999656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87F-4621-4C15-8392-38FAB1C5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99D-CE88-4C8D-A657-42339046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B256-A5B4-4C1C-BF36-82ABEA51A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EPS TO TAKE WHEN 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1219320" cy="213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21932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447560" cy="2667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1752480" cy="2895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8160" y="182880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1040" y="17524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3960" y="4724280"/>
            <a:ext cx="26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SE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60520" y="472428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S WHICH DECREASE F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ing confidence in your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ing confidence in your superior and your-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ing on the job to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676520" cy="1497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2667240" cy="152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657600" y="4038480"/>
            <a:ext cx="1638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2:10:26Z</dcterms:created>
  <dc:creator>DND</dc:creator>
  <dc:description/>
  <dc:language>en-US</dc:language>
  <cp:lastModifiedBy>DND</cp:lastModifiedBy>
  <cp:lastPrinted>1999-02-19T15:14:54Z</cp:lastPrinted>
  <dcterms:modified xsi:type="dcterms:W3CDTF">1999-02-19T15:14:58Z</dcterms:modified>
  <cp:revision>4</cp:revision>
  <dc:subject/>
  <dc:title>FACTORS WHICH DECREASE FEAR</dc:title>
</cp:coreProperties>
</file>