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77C-A497-42CB-9BF4-956EBBF1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BDF-AA93-48C5-BB28-A523D566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1DE-68E1-4ED4-93F1-80A7A237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6E8-4F51-4795-AFA6-3AC626BB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73A-F884-4446-9F74-818DFC50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E97-1196-4E49-BF4E-961D4A4F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A5B-4EC2-40BB-B792-E5DDBFB5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AFE-FD3D-4503-9541-56F8F143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071-677E-44B8-82C0-B53E6985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468-B09B-4D39-A305-0D56DB67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9B2-6895-4552-AECE-C0BD2316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4CF-6C3B-4402-A812-C459D515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2B2A-F59B-4C49-88F6-9F00EF281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76520"/>
          <a:ext cx="553392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553392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410080" y="838080"/>
          <a:ext cx="7088400" cy="81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838080"/>
                    <a:ext cx="70884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03400" y="1600200"/>
          <a:ext cx="5754600" cy="6629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3400" y="1600200"/>
                    <a:ext cx="57546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09:11Z</dcterms:modified>
  <cp:revision>6</cp:revision>
  <dc:subject/>
  <dc:title>No Slide Title</dc:title>
</cp:coreProperties>
</file>